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6.gif" ContentType="image/gif"/>
  <Override PartName="/ppt/media/image2.png" ContentType="image/png"/>
  <Override PartName="/ppt/media/image15.jpeg" ContentType="image/jpeg"/>
  <Override PartName="/ppt/media/image14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start.wav" ContentType="audio/x-wav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DC04-97C7-4858-81A7-C347201000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8989A-01F8-49C1-AA37-913CD5DD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16528-00ED-44BA-A554-19702E6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0090-40B3-4A71-9549-B174C37C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B0F0-337A-458C-A20F-2B252376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687C-7C62-4929-9E79-BA3C4DE7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2D01-1269-464C-9DEB-8D91A078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99B55-A388-40DC-9C4A-A311630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AA77-9A46-4216-8A70-DFD95D7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4F134-9AE3-430D-BBDD-036ADFEA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8B80A-0427-440A-8627-624F4E3F56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CBAB5-BAB5-4BCC-87FE-4D25C9485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2358-9AA8-45C4-ACB6-BD70401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063B9-913D-4B19-BFC0-A47EF6EC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02AB4-FD26-4EDD-B41A-FFE4425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8840F-013A-48C1-B7E2-5E76E641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A876E3-C44A-424F-BF7C-788E9C06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6576B1-177D-4985-9653-DC050861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21384-BF66-4482-8C9D-F599F79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7037C-9DDE-403F-BEDC-09E7F52F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CFE86-9B1B-4698-82E3-A3D95937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B1D55C-8D01-4B57-AD0E-1CF04E92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A8D8A-FCD7-482C-BB24-04D4E493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7670-98DA-421D-9885-053BDD9CC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D8D943-407B-4DD1-A93A-33BF5333A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4F375E-9BB2-4D42-AE27-C697DC39EC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4C041B-3DAA-4171-AEEB-2B681E58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150C1D-2A8F-4587-BCED-40AE0792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01AA8-21CD-4BF0-9D79-FFA77329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4E252-99CC-4318-B9BC-B85299DC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E60FB1-FED8-4244-844B-FB3AFA85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EDB60A-4789-4FB1-95A2-95859209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58A118-2402-444F-89C8-683FE540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762A9B-379C-4064-9843-D9A1409B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3193-044A-49C0-89EC-88254589D3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B5C545-5A43-4FF9-80C0-8442799E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F9ED1A-B9AD-4917-8FE5-86904712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D925B4-307A-47DC-A260-EFD33F7D6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3036-EB7F-472E-96F2-FF71C65B5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DE7CB-225D-4EB0-AE5E-4986BFA0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61F67-5422-4B67-9391-2F4B8467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5F956-7AAB-4EDA-A714-3BFF60CF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DBF1-DD34-4692-838F-CCB20BD0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DA17B-F9E5-49E9-ACB7-7C4E97CE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E2339-0786-47C7-9FEC-3D4C646B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733B3-9A71-4198-B92E-9A9F08B9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727E-ED9A-4659-A01E-9325BA1A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D40F-E86B-4397-BD78-F0DBDB25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8A44E-BF8F-4E9D-8C8B-8BDB4D2B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E5401-143A-4DFD-946E-A1BFF10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D877-CCF8-4900-B701-0CC84B8B6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889FC-DF21-4046-8F23-15698B3C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56AB7-2FF3-44EB-BDAD-11B17051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26A30-D0A8-44E3-AAAA-61AFBC6E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F6E12-866E-43BD-B210-06968333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E1F58-9FA6-4893-9F48-6E5D362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3BEF-4F66-4C6E-BDFB-3752406D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C776F-4785-431B-AFAC-BC9F40BA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3E6EC-E99B-40B5-B137-38C8B6B8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1BC4E-21BF-4C33-A86E-6235D202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79A29-17C1-48C5-85B0-D21C8B0D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FBFE0-6E96-4929-9189-1CC2F2140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BA1F-6C6B-43B6-B846-A24BD3167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D9CB-1FF9-4D0E-ABE6-C11A497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FC56-7C5C-469C-BE0A-FF0DBBD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86DE-786B-4617-A97F-0872D0C9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1498-92C3-42E9-A84A-935D9DBF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707C0-F3F1-4033-800E-A99A6032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4086-3370-4AD1-93F6-16EC4600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723B-F605-4EE5-9EC1-333B5B19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5C22-5FB4-442B-80C2-7B841346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34B6-6628-4671-AFB2-62FB1EF1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4932-753A-4803-9C24-16ADB7E6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C4C6-F3BE-40D4-895B-740DF1D8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FFBB-17D1-4149-91E8-0056CC5D2C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6DD0C-9B53-4BB5-825A-7F880DFCE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99D8F-209D-4A28-ABA3-BFC58E7D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1F932-B04D-4254-AD1E-892D10B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025E-7431-4F67-862C-7AC7D376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56418-C9D4-46AC-82AA-3BD8AA8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630AC-CC12-4CA5-A7B7-B54E9E14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53048-25FB-44D0-81C7-AB5B0A67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4C151-5695-48B0-9385-86C23FDB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02FB-8EA5-412D-97CD-A9FF991A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4028C-26A8-460B-A36B-3C6137C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39440-0CCB-4F46-9A3C-A5EAD2E5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E135D8-D4D5-4C91-83EF-9DFDE09D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9C9ED-EF37-4DEC-A513-C171271140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335F9-2CC0-4B6F-BB4A-8285D7728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8C4B-C0F4-4C32-812B-B9EFC989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69D30-070E-461D-9DBB-21748F4A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DF6C8-8F15-47AA-A99B-19F9EC0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3FE8F-7703-4D21-8E57-35728409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5A395-D3E5-43D9-8A98-55C240D8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90BD40-EF8B-4CC4-BE62-9795AF8E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DAB77-B0F5-4A14-A2B4-368BCD91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29463-0EA0-422F-AF40-298213B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BC3B6-6818-48D1-9482-6D8935E7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652AEB-C87B-4775-A4A9-8840D87F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3003F8-7568-4F08-9979-1C020D0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3499-0C32-46DF-9EC2-2B0867BB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9BA5B-6EB4-4BEF-BA7F-2F2B7D1FA4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5307-20B5-4B4E-A5BA-1EC56A7FE6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B829-B58F-4967-B726-B5DBF87B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8B3F-4CF4-400E-8F94-3371D64B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DFF8A-E378-4DC2-9AE5-2D61703F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B1CA-013E-412B-BB70-371D8C3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64D63-B618-43A9-B2E6-84D0866E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8403-E632-4791-9E6E-77D37FE1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1CA4-1966-4992-88BD-BC69C851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48799-73CE-442A-9863-8C68430F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7955-971E-4D59-AFE9-B1B5611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6BF7-96D7-4AFD-9EC4-18C721A0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95FD8-1E40-4A3C-A619-93F6714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95FB-5163-41AA-A070-BAC7EB6B8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93B38-E9F8-478B-A9E1-D0121E1905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F15E0-4FDC-4613-BBFF-9A6E2552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2A340-13CC-4B8B-9DE9-DC43FCE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3A38D-A58B-45B4-92A8-D900E0E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59F4F-4D93-40F4-B0FA-00FBA231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F325C-A861-4522-B3A9-0DF3D337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798A1-2286-45B7-A0B2-C273A33A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D492-374F-459C-A844-7A13D682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FA072-1E7E-45C5-B1DB-FC6D591E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D951B-DFA1-4735-9EEA-1CA22099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16EFB-64D1-4F51-8F5A-E2F1EDFE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533CF-6EFA-4B14-83DB-A248E83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40CC9-EA01-467C-932F-1A9775FAB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3C8D7-E897-4452-A446-D50C931F73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8EC8A-1DF4-439D-B005-3BDBE6A4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757975-2A58-453B-8522-6C81E0D4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EAE32C-E2C6-4C30-BB9B-2A803AAD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A80EA-CAF2-49A8-91C8-38C601C9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1FCC-633C-4314-8C59-E288588C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3B9BA1-7A23-450D-8613-6130192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9230C0-34CF-49C6-92E5-76D84B26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C0E50-6E67-4FDF-B6D5-9D1CB34F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B6EDCE-4648-4B7A-B453-DE8ACA4A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734D8B-339B-4821-AA75-CD9AD4C6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29574-1BE3-42B9-A600-ADE6209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AFF974-E7C7-4DE3-B6C9-662886481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50956-52F2-4DFE-805E-24DA96FE79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A6ED-0CED-40AA-8116-5AA66C97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B5F7-00E3-4CC8-838C-1C023778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65B-6E44-4CDE-8B38-8FDFE786C86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6953-FE81-42A2-9B56-9AE4276F34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0744-6226-4FCE-B95D-F9DE9B630F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C13-6449-4DA9-AF3F-EF8758DBE9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8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9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5F46-BB25-4C26-8E51-4BCB7ADA427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97EB-FFAE-4CD1-8C3D-4F605716126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C68C-39A2-4AA7-AA3F-F26B995727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B2D-443B-4CE3-8D77-8178B0B041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DFD0-68D2-4450-8CA3-4A8E0F103AF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0B2F-8933-4503-B4AB-93F624A68A4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BCB7-E917-46ED-B168-582889930D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8633-CF80-45B5-B064-79018EBE3D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矩形 31745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5" name="矩形 31746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5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7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1"/>
          <a:stretch/>
        </p:blipFill>
        <p:spPr>
          <a:xfrm>
            <a:off x="539640" y="620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3"/>
          <p:cNvSpPr/>
          <p:nvPr/>
        </p:nvSpPr>
        <p:spPr>
          <a:xfrm>
            <a:off x="692280" y="1552680"/>
            <a:ext cx="7335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连续求一个数的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是多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9" name="TextBox 3"/>
          <p:cNvSpPr/>
          <p:nvPr/>
        </p:nvSpPr>
        <p:spPr>
          <a:xfrm>
            <a:off x="0" y="270828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求比一个数多（少）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的数是多少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705" name="图片 27650" descr=""/>
          <p:cNvPicPr/>
          <p:nvPr/>
        </p:nvPicPr>
        <p:blipFill>
          <a:blip r:embed="rId2"/>
          <a:stretch/>
        </p:blipFill>
        <p:spPr>
          <a:xfrm>
            <a:off x="318960" y="243000"/>
            <a:ext cx="844884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4"/>
          <p:cNvSpPr/>
          <p:nvPr/>
        </p:nvSpPr>
        <p:spPr>
          <a:xfrm>
            <a:off x="250920" y="5445000"/>
            <a:ext cx="8066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求婴儿每分钟心跳次数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就是求青少年的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＋     ）是多少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250920" y="396720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先求出婴儿比青少年多的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再加上和青少年同样多的，就是婴儿每分钟心跳次数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11" name="组合 28679"/>
          <p:cNvGrpSpPr/>
          <p:nvPr/>
        </p:nvGrpSpPr>
        <p:grpSpPr>
          <a:xfrm>
            <a:off x="1560600" y="1871640"/>
            <a:ext cx="4811400" cy="1628640"/>
            <a:chOff x="1560600" y="1871640"/>
            <a:chExt cx="4811400" cy="1628640"/>
          </a:xfrm>
        </p:grpSpPr>
        <p:sp>
          <p:nvSpPr>
            <p:cNvPr id="712" name="左大括号 28680"/>
            <p:cNvSpPr/>
            <p:nvPr/>
          </p:nvSpPr>
          <p:spPr>
            <a:xfrm flipV="1" rot="5400000">
              <a:off x="3387600" y="1173600"/>
              <a:ext cx="195480" cy="2160360"/>
            </a:xfrm>
            <a:custGeom>
              <a:avLst/>
              <a:gdLst>
                <a:gd name="textAreaLeft" fmla="*/ 124920 w 195480"/>
                <a:gd name="textAreaRight" fmla="*/ 195840 w 195480"/>
                <a:gd name="textAreaTop" fmla="*/ 56160 h 2160360"/>
                <a:gd name="textAreaBottom" fmla="*/ 2104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3" name="组合 28681"/>
            <p:cNvGrpSpPr/>
            <p:nvPr/>
          </p:nvGrpSpPr>
          <p:grpSpPr>
            <a:xfrm>
              <a:off x="1560600" y="1871640"/>
              <a:ext cx="4811400" cy="1628640"/>
              <a:chOff x="1560600" y="1871640"/>
              <a:chExt cx="4811400" cy="1628640"/>
            </a:xfrm>
          </p:grpSpPr>
          <p:pic>
            <p:nvPicPr>
              <p:cNvPr id="714" name="图片 28682" descr="17"/>
              <p:cNvPicPr/>
              <p:nvPr/>
            </p:nvPicPr>
            <p:blipFill>
              <a:blip r:embed="rId1"/>
              <a:stretch/>
            </p:blipFill>
            <p:spPr>
              <a:xfrm>
                <a:off x="1560600" y="2349360"/>
                <a:ext cx="4811400" cy="115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矩形 28683"/>
              <p:cNvSpPr/>
              <p:nvPr/>
            </p:nvSpPr>
            <p:spPr>
              <a:xfrm>
                <a:off x="3161520" y="1871640"/>
                <a:ext cx="58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18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16" name="组合 28684"/>
          <p:cNvGrpSpPr/>
          <p:nvPr/>
        </p:nvGrpSpPr>
        <p:grpSpPr>
          <a:xfrm>
            <a:off x="250920" y="3357720"/>
            <a:ext cx="5472000" cy="815040"/>
            <a:chOff x="250920" y="3357720"/>
            <a:chExt cx="5472000" cy="815040"/>
          </a:xfrm>
        </p:grpSpPr>
        <p:sp>
          <p:nvSpPr>
            <p:cNvPr id="717" name="Text Box 8"/>
            <p:cNvSpPr/>
            <p:nvPr/>
          </p:nvSpPr>
          <p:spPr>
            <a:xfrm>
              <a:off x="250920" y="35830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18" name="组合 28686"/>
            <p:cNvGrpSpPr/>
            <p:nvPr/>
          </p:nvGrpSpPr>
          <p:grpSpPr>
            <a:xfrm>
              <a:off x="1258920" y="3357720"/>
              <a:ext cx="4464000" cy="815040"/>
              <a:chOff x="1258920" y="3357720"/>
              <a:chExt cx="4464000" cy="815040"/>
            </a:xfrm>
          </p:grpSpPr>
          <p:sp>
            <p:nvSpPr>
              <p:cNvPr id="719" name="文本框 28687"/>
              <p:cNvSpPr/>
              <p:nvPr/>
            </p:nvSpPr>
            <p:spPr>
              <a:xfrm>
                <a:off x="1258920" y="3594240"/>
                <a:ext cx="44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3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次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20" name="组合 28688"/>
              <p:cNvGrpSpPr/>
              <p:nvPr/>
            </p:nvGrpSpPr>
            <p:grpSpPr>
              <a:xfrm>
                <a:off x="2448000" y="3357720"/>
                <a:ext cx="522360" cy="815040"/>
                <a:chOff x="2448000" y="3357720"/>
                <a:chExt cx="522360" cy="815040"/>
              </a:xfrm>
            </p:grpSpPr>
            <p:sp>
              <p:nvSpPr>
                <p:cNvPr id="721" name="文本框 28689"/>
                <p:cNvSpPr/>
                <p:nvPr/>
              </p:nvSpPr>
              <p:spPr>
                <a:xfrm>
                  <a:off x="2465640" y="3713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2" name="文本框 28690"/>
                <p:cNvSpPr/>
                <p:nvPr/>
              </p:nvSpPr>
              <p:spPr>
                <a:xfrm>
                  <a:off x="2470320" y="33577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3" name="直接连接符 28691"/>
                <p:cNvSpPr/>
                <p:nvPr/>
              </p:nvSpPr>
              <p:spPr>
                <a:xfrm>
                  <a:off x="2448000" y="3776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724" name="组合 28692"/>
          <p:cNvGrpSpPr/>
          <p:nvPr/>
        </p:nvGrpSpPr>
        <p:grpSpPr>
          <a:xfrm>
            <a:off x="239760" y="4724280"/>
            <a:ext cx="5916600" cy="815400"/>
            <a:chOff x="239760" y="4724280"/>
            <a:chExt cx="5916600" cy="815400"/>
          </a:xfrm>
        </p:grpSpPr>
        <p:sp>
          <p:nvSpPr>
            <p:cNvPr id="725" name="Text Box 11"/>
            <p:cNvSpPr/>
            <p:nvPr/>
          </p:nvSpPr>
          <p:spPr>
            <a:xfrm>
              <a:off x="239760" y="493092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26" name="组合 28694"/>
            <p:cNvGrpSpPr/>
            <p:nvPr/>
          </p:nvGrpSpPr>
          <p:grpSpPr>
            <a:xfrm>
              <a:off x="1258920" y="4724280"/>
              <a:ext cx="4897440" cy="815400"/>
              <a:chOff x="1258920" y="4724280"/>
              <a:chExt cx="4897440" cy="815400"/>
            </a:xfrm>
          </p:grpSpPr>
          <p:grpSp>
            <p:nvGrpSpPr>
              <p:cNvPr id="727" name="组合 28695"/>
              <p:cNvGrpSpPr/>
              <p:nvPr/>
            </p:nvGrpSpPr>
            <p:grpSpPr>
              <a:xfrm>
                <a:off x="3989520" y="4724280"/>
                <a:ext cx="522360" cy="815400"/>
                <a:chOff x="3989520" y="4724280"/>
                <a:chExt cx="522360" cy="815400"/>
              </a:xfrm>
            </p:grpSpPr>
            <p:sp>
              <p:nvSpPr>
                <p:cNvPr id="728" name="文本框 28696"/>
                <p:cNvSpPr/>
                <p:nvPr/>
              </p:nvSpPr>
              <p:spPr>
                <a:xfrm>
                  <a:off x="4007160" y="5079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29" name="文本框 28697"/>
                <p:cNvSpPr/>
                <p:nvPr/>
              </p:nvSpPr>
              <p:spPr>
                <a:xfrm>
                  <a:off x="4011840" y="47242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0" name="直接连接符 28698"/>
                <p:cNvSpPr/>
                <p:nvPr/>
              </p:nvSpPr>
              <p:spPr>
                <a:xfrm>
                  <a:off x="3989520" y="51433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731" name="组合 28699"/>
              <p:cNvGrpSpPr/>
              <p:nvPr/>
            </p:nvGrpSpPr>
            <p:grpSpPr>
              <a:xfrm>
                <a:off x="2559240" y="4724280"/>
                <a:ext cx="521640" cy="815400"/>
                <a:chOff x="2559240" y="4724280"/>
                <a:chExt cx="521640" cy="815400"/>
              </a:xfrm>
            </p:grpSpPr>
            <p:sp>
              <p:nvSpPr>
                <p:cNvPr id="732" name="文本框 28700"/>
                <p:cNvSpPr/>
                <p:nvPr/>
              </p:nvSpPr>
              <p:spPr>
                <a:xfrm>
                  <a:off x="2576520" y="50799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3" name="文本框 28701"/>
                <p:cNvSpPr/>
                <p:nvPr/>
              </p:nvSpPr>
              <p:spPr>
                <a:xfrm>
                  <a:off x="2581200" y="472428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34" name="直接连接符 28702"/>
                <p:cNvSpPr/>
                <p:nvPr/>
              </p:nvSpPr>
              <p:spPr>
                <a:xfrm>
                  <a:off x="2559240" y="514332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735" name="文本框 28703"/>
              <p:cNvSpPr/>
              <p:nvPr/>
            </p:nvSpPr>
            <p:spPr>
              <a:xfrm>
                <a:off x="1258920" y="4951440"/>
                <a:ext cx="4897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  ）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5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35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次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36" name="组合 28704"/>
          <p:cNvGrpSpPr/>
          <p:nvPr/>
        </p:nvGrpSpPr>
        <p:grpSpPr>
          <a:xfrm>
            <a:off x="4044960" y="5689440"/>
            <a:ext cx="522360" cy="815400"/>
            <a:chOff x="4044960" y="5689440"/>
            <a:chExt cx="522360" cy="815400"/>
          </a:xfrm>
        </p:grpSpPr>
        <p:sp>
          <p:nvSpPr>
            <p:cNvPr id="737" name="文本框 28705"/>
            <p:cNvSpPr/>
            <p:nvPr/>
          </p:nvSpPr>
          <p:spPr>
            <a:xfrm>
              <a:off x="4062600" y="60451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8" name="文本框 28706"/>
            <p:cNvSpPr/>
            <p:nvPr/>
          </p:nvSpPr>
          <p:spPr>
            <a:xfrm>
              <a:off x="4067280" y="5689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9" name="直接连接符 28707"/>
            <p:cNvSpPr/>
            <p:nvPr/>
          </p:nvSpPr>
          <p:spPr>
            <a:xfrm>
              <a:off x="4044960" y="61084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533520" y="308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种解题思路有什么不同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Box 124"/>
          <p:cNvSpPr/>
          <p:nvPr/>
        </p:nvSpPr>
        <p:spPr>
          <a:xfrm>
            <a:off x="612720" y="5772240"/>
            <a:ext cx="7920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虽然两种解法不同，都是依据了分数乘法的意义，求一个数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用乘法计算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 Box 11"/>
          <p:cNvSpPr/>
          <p:nvPr/>
        </p:nvSpPr>
        <p:spPr>
          <a:xfrm>
            <a:off x="996840" y="3530520"/>
            <a:ext cx="839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用两种方法求出了婴儿的每分钟心跳次数，那么对不对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可以怎样检查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5508720" y="493704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3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－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）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÷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＝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47" name="组合 29704"/>
          <p:cNvGrpSpPr/>
          <p:nvPr/>
        </p:nvGrpSpPr>
        <p:grpSpPr>
          <a:xfrm>
            <a:off x="395280" y="2060640"/>
            <a:ext cx="4464000" cy="815040"/>
            <a:chOff x="395280" y="2060640"/>
            <a:chExt cx="4464000" cy="815040"/>
          </a:xfrm>
        </p:grpSpPr>
        <p:sp>
          <p:nvSpPr>
            <p:cNvPr id="748" name="文本框 29705"/>
            <p:cNvSpPr/>
            <p:nvPr/>
          </p:nvSpPr>
          <p:spPr>
            <a:xfrm>
              <a:off x="395280" y="2297160"/>
              <a:ext cx="44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次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749" name="组合 29706"/>
            <p:cNvGrpSpPr/>
            <p:nvPr/>
          </p:nvGrpSpPr>
          <p:grpSpPr>
            <a:xfrm>
              <a:off x="1584360" y="2060640"/>
              <a:ext cx="522360" cy="815040"/>
              <a:chOff x="1584360" y="2060640"/>
              <a:chExt cx="522360" cy="815040"/>
            </a:xfrm>
          </p:grpSpPr>
          <p:sp>
            <p:nvSpPr>
              <p:cNvPr id="750" name="文本框 29707"/>
              <p:cNvSpPr/>
              <p:nvPr/>
            </p:nvSpPr>
            <p:spPr>
              <a:xfrm>
                <a:off x="1602000" y="24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1" name="文本框 29708"/>
              <p:cNvSpPr/>
              <p:nvPr/>
            </p:nvSpPr>
            <p:spPr>
              <a:xfrm>
                <a:off x="1606680" y="20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2" name="直接连接符 29709"/>
              <p:cNvSpPr/>
              <p:nvPr/>
            </p:nvSpPr>
            <p:spPr>
              <a:xfrm>
                <a:off x="1584360" y="2479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753" name="组合 29710"/>
          <p:cNvGrpSpPr/>
          <p:nvPr/>
        </p:nvGrpSpPr>
        <p:grpSpPr>
          <a:xfrm>
            <a:off x="4572000" y="2073240"/>
            <a:ext cx="4897440" cy="815400"/>
            <a:chOff x="4572000" y="2073240"/>
            <a:chExt cx="4897440" cy="815400"/>
          </a:xfrm>
        </p:grpSpPr>
        <p:grpSp>
          <p:nvGrpSpPr>
            <p:cNvPr id="754" name="组合 29711"/>
            <p:cNvGrpSpPr/>
            <p:nvPr/>
          </p:nvGrpSpPr>
          <p:grpSpPr>
            <a:xfrm>
              <a:off x="7302600" y="2073240"/>
              <a:ext cx="522360" cy="815400"/>
              <a:chOff x="7302600" y="2073240"/>
              <a:chExt cx="522360" cy="815400"/>
            </a:xfrm>
          </p:grpSpPr>
          <p:sp>
            <p:nvSpPr>
              <p:cNvPr id="755" name="文本框 29712"/>
              <p:cNvSpPr/>
              <p:nvPr/>
            </p:nvSpPr>
            <p:spPr>
              <a:xfrm>
                <a:off x="7320240" y="242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6" name="文本框 29713"/>
              <p:cNvSpPr/>
              <p:nvPr/>
            </p:nvSpPr>
            <p:spPr>
              <a:xfrm>
                <a:off x="7324920" y="207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57" name="直接连接符 29714"/>
              <p:cNvSpPr/>
              <p:nvPr/>
            </p:nvSpPr>
            <p:spPr>
              <a:xfrm>
                <a:off x="7302600" y="249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58" name="组合 29715"/>
            <p:cNvGrpSpPr/>
            <p:nvPr/>
          </p:nvGrpSpPr>
          <p:grpSpPr>
            <a:xfrm>
              <a:off x="5872320" y="2073240"/>
              <a:ext cx="521640" cy="815400"/>
              <a:chOff x="5872320" y="2073240"/>
              <a:chExt cx="521640" cy="815400"/>
            </a:xfrm>
          </p:grpSpPr>
          <p:sp>
            <p:nvSpPr>
              <p:cNvPr id="759" name="文本框 29716"/>
              <p:cNvSpPr/>
              <p:nvPr/>
            </p:nvSpPr>
            <p:spPr>
              <a:xfrm>
                <a:off x="5889600" y="24289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0" name="文本框 29717"/>
              <p:cNvSpPr/>
              <p:nvPr/>
            </p:nvSpPr>
            <p:spPr>
              <a:xfrm>
                <a:off x="5894280" y="20732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61" name="直接连接符 29718"/>
              <p:cNvSpPr/>
              <p:nvPr/>
            </p:nvSpPr>
            <p:spPr>
              <a:xfrm>
                <a:off x="5872320" y="24922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62" name="文本框 29719"/>
            <p:cNvSpPr/>
            <p:nvPr/>
          </p:nvSpPr>
          <p:spPr>
            <a:xfrm>
              <a:off x="4572000" y="2300400"/>
              <a:ext cx="489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  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次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63" name="组合 29720"/>
          <p:cNvGrpSpPr/>
          <p:nvPr/>
        </p:nvGrpSpPr>
        <p:grpSpPr>
          <a:xfrm>
            <a:off x="7862760" y="4703760"/>
            <a:ext cx="522360" cy="815400"/>
            <a:chOff x="7862760" y="4703760"/>
            <a:chExt cx="522360" cy="815400"/>
          </a:xfrm>
        </p:grpSpPr>
        <p:sp>
          <p:nvSpPr>
            <p:cNvPr id="764" name="文本框 29721"/>
            <p:cNvSpPr/>
            <p:nvPr/>
          </p:nvSpPr>
          <p:spPr>
            <a:xfrm>
              <a:off x="7880400" y="5059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5" name="文本框 29722"/>
            <p:cNvSpPr/>
            <p:nvPr/>
          </p:nvSpPr>
          <p:spPr>
            <a:xfrm>
              <a:off x="7885080" y="4703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66" name="直接连接符 29723"/>
            <p:cNvSpPr/>
            <p:nvPr/>
          </p:nvSpPr>
          <p:spPr>
            <a:xfrm>
              <a:off x="7862760" y="5122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67" name="组合 29724"/>
          <p:cNvGrpSpPr/>
          <p:nvPr/>
        </p:nvGrpSpPr>
        <p:grpSpPr>
          <a:xfrm>
            <a:off x="317520" y="4344840"/>
            <a:ext cx="5135040" cy="1407240"/>
            <a:chOff x="317520" y="4344840"/>
            <a:chExt cx="5135040" cy="1407240"/>
          </a:xfrm>
        </p:grpSpPr>
        <p:grpSp>
          <p:nvGrpSpPr>
            <p:cNvPr id="768" name="组合 29725"/>
            <p:cNvGrpSpPr/>
            <p:nvPr/>
          </p:nvGrpSpPr>
          <p:grpSpPr>
            <a:xfrm>
              <a:off x="317520" y="4344840"/>
              <a:ext cx="4874400" cy="1251000"/>
              <a:chOff x="317520" y="4344840"/>
              <a:chExt cx="4874400" cy="1251000"/>
            </a:xfrm>
          </p:grpSpPr>
          <p:pic>
            <p:nvPicPr>
              <p:cNvPr id="769" name="图片 29726" descr="18"/>
              <p:cNvPicPr/>
              <p:nvPr/>
            </p:nvPicPr>
            <p:blipFill>
              <a:blip r:embed="rId1"/>
              <a:stretch/>
            </p:blipFill>
            <p:spPr>
              <a:xfrm>
                <a:off x="682200" y="4516200"/>
                <a:ext cx="450972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文本框 29727"/>
              <p:cNvSpPr/>
              <p:nvPr/>
            </p:nvSpPr>
            <p:spPr>
              <a:xfrm>
                <a:off x="317520" y="434484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青少年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71" name="文本框 29728"/>
              <p:cNvSpPr/>
              <p:nvPr/>
            </p:nvSpPr>
            <p:spPr>
              <a:xfrm>
                <a:off x="599760" y="494784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婴儿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772" name="文本框 29729"/>
            <p:cNvSpPr/>
            <p:nvPr/>
          </p:nvSpPr>
          <p:spPr>
            <a:xfrm>
              <a:off x="2117520" y="4748400"/>
              <a:ext cx="79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3" name="文本框 29730"/>
            <p:cNvSpPr/>
            <p:nvPr/>
          </p:nvSpPr>
          <p:spPr>
            <a:xfrm>
              <a:off x="2981160" y="5353200"/>
              <a:ext cx="115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74" name="文本框 29731"/>
            <p:cNvSpPr/>
            <p:nvPr/>
          </p:nvSpPr>
          <p:spPr>
            <a:xfrm>
              <a:off x="3580920" y="460548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比青少年多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巩固练习，提升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30723" descr="19"/>
          <p:cNvPicPr/>
          <p:nvPr/>
        </p:nvPicPr>
        <p:blipFill>
          <a:blip r:embed="rId1"/>
          <a:stretch/>
        </p:blipFill>
        <p:spPr>
          <a:xfrm>
            <a:off x="1116000" y="2459160"/>
            <a:ext cx="5045040" cy="1258920"/>
          </a:xfrm>
          <a:prstGeom prst="rect">
            <a:avLst/>
          </a:prstGeom>
          <a:ln w="0">
            <a:noFill/>
          </a:ln>
        </p:spPr>
      </p:pic>
      <p:sp>
        <p:nvSpPr>
          <p:cNvPr id="777" name="矩形 30724"/>
          <p:cNvSpPr/>
          <p:nvPr/>
        </p:nvSpPr>
        <p:spPr>
          <a:xfrm>
            <a:off x="3538800" y="15573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噪音对人的健康有害，绿化造林可降低噪音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矩形 30725"/>
          <p:cNvSpPr/>
          <p:nvPr/>
        </p:nvSpPr>
        <p:spPr>
          <a:xfrm>
            <a:off x="3671280" y="2081160"/>
            <a:ext cx="8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8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矩形 30726"/>
          <p:cNvSpPr/>
          <p:nvPr/>
        </p:nvSpPr>
        <p:spPr>
          <a:xfrm>
            <a:off x="3556080" y="3573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噪音降低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0" name="组合 30727"/>
          <p:cNvGrpSpPr/>
          <p:nvPr/>
        </p:nvGrpSpPr>
        <p:grpSpPr>
          <a:xfrm>
            <a:off x="4538520" y="3357720"/>
            <a:ext cx="522360" cy="815040"/>
            <a:chOff x="4538520" y="3357720"/>
            <a:chExt cx="522360" cy="815040"/>
          </a:xfrm>
        </p:grpSpPr>
        <p:sp>
          <p:nvSpPr>
            <p:cNvPr id="781" name="文本框 30728"/>
            <p:cNvSpPr/>
            <p:nvPr/>
          </p:nvSpPr>
          <p:spPr>
            <a:xfrm>
              <a:off x="4556160" y="371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2" name="文本框 30729"/>
            <p:cNvSpPr/>
            <p:nvPr/>
          </p:nvSpPr>
          <p:spPr>
            <a:xfrm>
              <a:off x="4560840" y="33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83" name="直接连接符 30730"/>
            <p:cNvSpPr/>
            <p:nvPr/>
          </p:nvSpPr>
          <p:spPr>
            <a:xfrm>
              <a:off x="4538520" y="377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84" name="矩形 30731"/>
          <p:cNvSpPr/>
          <p:nvPr/>
        </p:nvSpPr>
        <p:spPr>
          <a:xfrm>
            <a:off x="6227640" y="24703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化带降低了噪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以后，人听到的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音是多少分贝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85" name="组合 30732"/>
          <p:cNvGrpSpPr/>
          <p:nvPr/>
        </p:nvGrpSpPr>
        <p:grpSpPr>
          <a:xfrm>
            <a:off x="2124000" y="3860640"/>
            <a:ext cx="4908600" cy="2081520"/>
            <a:chOff x="2124000" y="3860640"/>
            <a:chExt cx="4908600" cy="2081520"/>
          </a:xfrm>
        </p:grpSpPr>
        <p:grpSp>
          <p:nvGrpSpPr>
            <p:cNvPr id="786" name="组合 30733"/>
            <p:cNvGrpSpPr/>
            <p:nvPr/>
          </p:nvGrpSpPr>
          <p:grpSpPr>
            <a:xfrm>
              <a:off x="2124000" y="4168800"/>
              <a:ext cx="4908600" cy="1773360"/>
              <a:chOff x="2124000" y="4168800"/>
              <a:chExt cx="4908600" cy="1773360"/>
            </a:xfrm>
          </p:grpSpPr>
          <p:sp>
            <p:nvSpPr>
              <p:cNvPr id="787" name="左大括号 30734"/>
              <p:cNvSpPr/>
              <p:nvPr/>
            </p:nvSpPr>
            <p:spPr>
              <a:xfrm flipV="1" rot="5400000">
                <a:off x="6151320" y="4470480"/>
                <a:ext cx="73080" cy="54000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4040 h 540000"/>
                  <a:gd name="textAreaBottom" fmla="*/ 525960 h 54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788" name="组合 30735"/>
              <p:cNvGrpSpPr/>
              <p:nvPr/>
            </p:nvGrpSpPr>
            <p:grpSpPr>
              <a:xfrm>
                <a:off x="2124000" y="4168800"/>
                <a:ext cx="4908600" cy="1773360"/>
                <a:chOff x="2124000" y="4168800"/>
                <a:chExt cx="4908600" cy="1773360"/>
              </a:xfrm>
            </p:grpSpPr>
            <p:grpSp>
              <p:nvGrpSpPr>
                <p:cNvPr id="789" name="组合 30736"/>
                <p:cNvGrpSpPr/>
                <p:nvPr/>
              </p:nvGrpSpPr>
              <p:grpSpPr>
                <a:xfrm>
                  <a:off x="2124000" y="4833720"/>
                  <a:ext cx="4348440" cy="144000"/>
                  <a:chOff x="2124000" y="4833720"/>
                  <a:chExt cx="4348440" cy="144000"/>
                </a:xfrm>
              </p:grpSpPr>
              <p:sp>
                <p:nvSpPr>
                  <p:cNvPr id="790" name="直接连接符 30737"/>
                  <p:cNvSpPr/>
                  <p:nvPr/>
                </p:nvSpPr>
                <p:spPr>
                  <a:xfrm>
                    <a:off x="2124000" y="4966560"/>
                    <a:ext cx="37785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1" name="直接连接符 30738"/>
                  <p:cNvSpPr/>
                  <p:nvPr/>
                </p:nvSpPr>
                <p:spPr>
                  <a:xfrm>
                    <a:off x="5913360" y="4966560"/>
                    <a:ext cx="540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2" name="直接连接符 30739"/>
                  <p:cNvSpPr/>
                  <p:nvPr/>
                </p:nvSpPr>
                <p:spPr>
                  <a:xfrm flipV="1">
                    <a:off x="212400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3" name="直接连接符 30740"/>
                  <p:cNvSpPr/>
                  <p:nvPr/>
                </p:nvSpPr>
                <p:spPr>
                  <a:xfrm flipV="1">
                    <a:off x="591336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794" name="直接连接符 30741"/>
                  <p:cNvSpPr/>
                  <p:nvPr/>
                </p:nvSpPr>
                <p:spPr>
                  <a:xfrm flipV="1">
                    <a:off x="6472440" y="4833720"/>
                    <a:ext cx="0" cy="144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795" name="左大括号 30742"/>
                <p:cNvSpPr/>
                <p:nvPr/>
              </p:nvSpPr>
              <p:spPr>
                <a:xfrm rot="16200000">
                  <a:off x="3916440" y="3196080"/>
                  <a:ext cx="193320" cy="3778560"/>
                </a:xfrm>
                <a:custGeom>
                  <a:avLst/>
                  <a:gdLst>
                    <a:gd name="textAreaLeft" fmla="*/ 123480 w 193320"/>
                    <a:gd name="textAreaRight" fmla="*/ 193680 w 193320"/>
                    <a:gd name="textAreaTop" fmla="*/ 98280 h 3778560"/>
                    <a:gd name="textAreaBottom" fmla="*/ 3680280 h 377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6" name="矩形 30743"/>
                <p:cNvSpPr/>
                <p:nvPr/>
              </p:nvSpPr>
              <p:spPr>
                <a:xfrm>
                  <a:off x="3106800" y="5128920"/>
                  <a:ext cx="273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人听到多少分贝？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7" name="左大括号 30744"/>
                <p:cNvSpPr/>
                <p:nvPr/>
              </p:nvSpPr>
              <p:spPr>
                <a:xfrm rot="16200000">
                  <a:off x="4160160" y="3384720"/>
                  <a:ext cx="198360" cy="4222440"/>
                </a:xfrm>
                <a:custGeom>
                  <a:avLst/>
                  <a:gdLst>
                    <a:gd name="textAreaLeft" fmla="*/ 126720 w 198360"/>
                    <a:gd name="textAreaRight" fmla="*/ 198720 w 198360"/>
                    <a:gd name="textAreaTop" fmla="*/ 109800 h 4222440"/>
                    <a:gd name="textAreaBottom" fmla="*/ 4112640 h 4222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8" name="矩形 30745"/>
                <p:cNvSpPr/>
                <p:nvPr/>
              </p:nvSpPr>
              <p:spPr>
                <a:xfrm>
                  <a:off x="3732120" y="5543280"/>
                  <a:ext cx="273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分贝？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799" name="文本框 30746"/>
                <p:cNvSpPr/>
                <p:nvPr/>
              </p:nvSpPr>
              <p:spPr>
                <a:xfrm>
                  <a:off x="5808600" y="4402080"/>
                  <a:ext cx="1224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降低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800" name="组合 30747"/>
                <p:cNvGrpSpPr/>
                <p:nvPr/>
              </p:nvGrpSpPr>
              <p:grpSpPr>
                <a:xfrm>
                  <a:off x="6445440" y="4168800"/>
                  <a:ext cx="521640" cy="815040"/>
                  <a:chOff x="6445440" y="4168800"/>
                  <a:chExt cx="521640" cy="815040"/>
                </a:xfrm>
              </p:grpSpPr>
              <p:sp>
                <p:nvSpPr>
                  <p:cNvPr id="801" name="文本框 30748"/>
                  <p:cNvSpPr/>
                  <p:nvPr/>
                </p:nvSpPr>
                <p:spPr>
                  <a:xfrm>
                    <a:off x="6462720" y="4524120"/>
                    <a:ext cx="504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02" name="文本框 30749"/>
                  <p:cNvSpPr/>
                  <p:nvPr/>
                </p:nvSpPr>
                <p:spPr>
                  <a:xfrm>
                    <a:off x="6467400" y="4168800"/>
                    <a:ext cx="360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803" name="直接连接符 30750"/>
                  <p:cNvSpPr/>
                  <p:nvPr/>
                </p:nvSpPr>
                <p:spPr>
                  <a:xfrm>
                    <a:off x="6445440" y="4587480"/>
                    <a:ext cx="36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804" name="左大括号 30751"/>
                <p:cNvSpPr/>
                <p:nvPr/>
              </p:nvSpPr>
              <p:spPr>
                <a:xfrm flipV="1" rot="5400000">
                  <a:off x="4200120" y="2178360"/>
                  <a:ext cx="198000" cy="4222800"/>
                </a:xfrm>
                <a:custGeom>
                  <a:avLst/>
                  <a:gdLst>
                    <a:gd name="textAreaLeft" fmla="*/ 126720 w 198000"/>
                    <a:gd name="textAreaRight" fmla="*/ 198360 w 198000"/>
                    <a:gd name="textAreaTop" fmla="*/ 109800 h 4222800"/>
                    <a:gd name="textAreaBottom" fmla="*/ 4113000 h 4222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805" name="文本框 30752"/>
            <p:cNvSpPr/>
            <p:nvPr/>
          </p:nvSpPr>
          <p:spPr>
            <a:xfrm>
              <a:off x="3865680" y="3860640"/>
              <a:ext cx="11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806" name="组合 30753"/>
          <p:cNvGrpSpPr/>
          <p:nvPr/>
        </p:nvGrpSpPr>
        <p:grpSpPr>
          <a:xfrm>
            <a:off x="228600" y="5722920"/>
            <a:ext cx="4343400" cy="1042200"/>
            <a:chOff x="228600" y="5722920"/>
            <a:chExt cx="4343400" cy="1042200"/>
          </a:xfrm>
        </p:grpSpPr>
        <p:sp>
          <p:nvSpPr>
            <p:cNvPr id="807" name="Text Box 4"/>
            <p:cNvSpPr/>
            <p:nvPr/>
          </p:nvSpPr>
          <p:spPr>
            <a:xfrm>
              <a:off x="228600" y="5722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08" name="文本框 30755"/>
            <p:cNvSpPr/>
            <p:nvPr/>
          </p:nvSpPr>
          <p:spPr>
            <a:xfrm>
              <a:off x="250920" y="6165720"/>
              <a:ext cx="432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分贝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09" name="组合 30756"/>
            <p:cNvGrpSpPr/>
            <p:nvPr/>
          </p:nvGrpSpPr>
          <p:grpSpPr>
            <a:xfrm>
              <a:off x="1420920" y="5950080"/>
              <a:ext cx="522360" cy="815040"/>
              <a:chOff x="1420920" y="5950080"/>
              <a:chExt cx="522360" cy="815040"/>
            </a:xfrm>
          </p:grpSpPr>
          <p:sp>
            <p:nvSpPr>
              <p:cNvPr id="810" name="文本框 30757"/>
              <p:cNvSpPr/>
              <p:nvPr/>
            </p:nvSpPr>
            <p:spPr>
              <a:xfrm>
                <a:off x="1438560" y="6305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1" name="文本框 30758"/>
              <p:cNvSpPr/>
              <p:nvPr/>
            </p:nvSpPr>
            <p:spPr>
              <a:xfrm>
                <a:off x="1443240" y="5950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2" name="直接连接符 30759"/>
              <p:cNvSpPr/>
              <p:nvPr/>
            </p:nvSpPr>
            <p:spPr>
              <a:xfrm>
                <a:off x="1420920" y="6368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813" name="组合 30760"/>
          <p:cNvGrpSpPr/>
          <p:nvPr/>
        </p:nvGrpSpPr>
        <p:grpSpPr>
          <a:xfrm>
            <a:off x="4660920" y="5716440"/>
            <a:ext cx="4776480" cy="1042200"/>
            <a:chOff x="4660920" y="5716440"/>
            <a:chExt cx="4776480" cy="1042200"/>
          </a:xfrm>
        </p:grpSpPr>
        <p:sp>
          <p:nvSpPr>
            <p:cNvPr id="814" name="Text Box 4"/>
            <p:cNvSpPr/>
            <p:nvPr/>
          </p:nvSpPr>
          <p:spPr>
            <a:xfrm>
              <a:off x="4660920" y="57164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15" name="文本框 30762"/>
            <p:cNvSpPr/>
            <p:nvPr/>
          </p:nvSpPr>
          <p:spPr>
            <a:xfrm>
              <a:off x="4682880" y="6159240"/>
              <a:ext cx="47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(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   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分贝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816" name="组合 30763"/>
            <p:cNvGrpSpPr/>
            <p:nvPr/>
          </p:nvGrpSpPr>
          <p:grpSpPr>
            <a:xfrm>
              <a:off x="5852880" y="5943240"/>
              <a:ext cx="522360" cy="815400"/>
              <a:chOff x="5852880" y="5943240"/>
              <a:chExt cx="522360" cy="815400"/>
            </a:xfrm>
          </p:grpSpPr>
          <p:sp>
            <p:nvSpPr>
              <p:cNvPr id="817" name="文本框 30764"/>
              <p:cNvSpPr/>
              <p:nvPr/>
            </p:nvSpPr>
            <p:spPr>
              <a:xfrm>
                <a:off x="5870520" y="6298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8" name="文本框 30765"/>
              <p:cNvSpPr/>
              <p:nvPr/>
            </p:nvSpPr>
            <p:spPr>
              <a:xfrm>
                <a:off x="5875200" y="5943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19" name="直接连接符 30766"/>
              <p:cNvSpPr/>
              <p:nvPr/>
            </p:nvSpPr>
            <p:spPr>
              <a:xfrm>
                <a:off x="5852880" y="63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820" name="组合 30767"/>
            <p:cNvGrpSpPr/>
            <p:nvPr/>
          </p:nvGrpSpPr>
          <p:grpSpPr>
            <a:xfrm>
              <a:off x="7291080" y="5940000"/>
              <a:ext cx="522360" cy="815400"/>
              <a:chOff x="7291080" y="5940000"/>
              <a:chExt cx="522360" cy="815400"/>
            </a:xfrm>
          </p:grpSpPr>
          <p:sp>
            <p:nvSpPr>
              <p:cNvPr id="821" name="文本框 30768"/>
              <p:cNvSpPr/>
              <p:nvPr/>
            </p:nvSpPr>
            <p:spPr>
              <a:xfrm>
                <a:off x="7308720" y="6295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22" name="文本框 30769"/>
              <p:cNvSpPr/>
              <p:nvPr/>
            </p:nvSpPr>
            <p:spPr>
              <a:xfrm>
                <a:off x="7313400" y="594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823" name="直接连接符 30770"/>
              <p:cNvSpPr/>
              <p:nvPr/>
            </p:nvSpPr>
            <p:spPr>
              <a:xfrm>
                <a:off x="7291080" y="6359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5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828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829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831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832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2" name="组合 19476"/>
          <p:cNvGrpSpPr/>
          <p:nvPr/>
        </p:nvGrpSpPr>
        <p:grpSpPr>
          <a:xfrm>
            <a:off x="442800" y="4076640"/>
            <a:ext cx="7893000" cy="2837160"/>
            <a:chOff x="442800" y="4076640"/>
            <a:chExt cx="7893000" cy="2837160"/>
          </a:xfrm>
        </p:grpSpPr>
        <p:sp>
          <p:nvSpPr>
            <p:cNvPr id="503" name="TextBox 36"/>
            <p:cNvSpPr/>
            <p:nvPr/>
          </p:nvSpPr>
          <p:spPr>
            <a:xfrm>
              <a:off x="1042920" y="4076640"/>
              <a:ext cx="72928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从题目中你知道了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整个大棚的面积是     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萝卜地的面积占整个大棚面积的     。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的面积占萝卜地面积的     。   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要求的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的面积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04" name="组合 19475"/>
            <p:cNvGrpSpPr/>
            <p:nvPr/>
          </p:nvGrpSpPr>
          <p:grpSpPr>
            <a:xfrm>
              <a:off x="442800" y="4173480"/>
              <a:ext cx="5457960" cy="1736640"/>
              <a:chOff x="442800" y="4173480"/>
              <a:chExt cx="5457960" cy="1736640"/>
            </a:xfrm>
          </p:grpSpPr>
          <p:grpSp>
            <p:nvGrpSpPr>
              <p:cNvPr id="505" name="组合 19461"/>
              <p:cNvGrpSpPr/>
              <p:nvPr/>
            </p:nvGrpSpPr>
            <p:grpSpPr>
              <a:xfrm>
                <a:off x="3687840" y="5002200"/>
                <a:ext cx="2212920" cy="907920"/>
                <a:chOff x="3687840" y="5002200"/>
                <a:chExt cx="2212920" cy="907920"/>
              </a:xfrm>
            </p:grpSpPr>
            <p:sp>
              <p:nvSpPr>
                <p:cNvPr id="506" name="Line 10"/>
                <p:cNvSpPr/>
                <p:nvPr/>
              </p:nvSpPr>
              <p:spPr>
                <a:xfrm>
                  <a:off x="3687840" y="5002200"/>
                  <a:ext cx="66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7" name="Line 11"/>
                <p:cNvSpPr/>
                <p:nvPr/>
              </p:nvSpPr>
              <p:spPr>
                <a:xfrm>
                  <a:off x="5237280" y="5445000"/>
                  <a:ext cx="64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08" name="Line 12"/>
                <p:cNvSpPr/>
                <p:nvPr/>
              </p:nvSpPr>
              <p:spPr>
                <a:xfrm>
                  <a:off x="5253120" y="5910120"/>
                  <a:ext cx="647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09" name="TextBox 34"/>
              <p:cNvSpPr/>
              <p:nvPr/>
            </p:nvSpPr>
            <p:spPr>
              <a:xfrm>
                <a:off x="442800" y="4173480"/>
                <a:ext cx="98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问题：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10" name="Text Box 7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1" name="组合 19469"/>
          <p:cNvGrpSpPr/>
          <p:nvPr/>
        </p:nvGrpSpPr>
        <p:grpSpPr>
          <a:xfrm>
            <a:off x="1763640" y="1844640"/>
            <a:ext cx="4679640" cy="2169000"/>
            <a:chOff x="1763640" y="1844640"/>
            <a:chExt cx="4679640" cy="2169000"/>
          </a:xfrm>
        </p:grpSpPr>
        <p:pic>
          <p:nvPicPr>
            <p:cNvPr id="512" name="图片 19470" descr="14"/>
            <p:cNvPicPr/>
            <p:nvPr/>
          </p:nvPicPr>
          <p:blipFill>
            <a:blip r:embed="rId1"/>
            <a:stretch/>
          </p:blipFill>
          <p:spPr>
            <a:xfrm>
              <a:off x="1763640" y="1844640"/>
              <a:ext cx="467964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矩形 19471"/>
            <p:cNvSpPr/>
            <p:nvPr/>
          </p:nvSpPr>
          <p:spPr>
            <a:xfrm>
              <a:off x="2219760" y="3614760"/>
              <a:ext cx="30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有多少平方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6" name="TextBox 36"/>
          <p:cNvSpPr/>
          <p:nvPr/>
        </p:nvSpPr>
        <p:spPr>
          <a:xfrm>
            <a:off x="826920" y="42656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怎样理解“其中的一半种各种萝卜”？（把这块地平均分成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其中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种各种萝卜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8" name="组合 20485"/>
          <p:cNvGrpSpPr/>
          <p:nvPr/>
        </p:nvGrpSpPr>
        <p:grpSpPr>
          <a:xfrm>
            <a:off x="1744560" y="1844640"/>
            <a:ext cx="4627800" cy="2199240"/>
            <a:chOff x="1744560" y="1844640"/>
            <a:chExt cx="4627800" cy="2199240"/>
          </a:xfrm>
        </p:grpSpPr>
        <p:pic>
          <p:nvPicPr>
            <p:cNvPr id="519" name="图片 20486" descr="14"/>
            <p:cNvPicPr/>
            <p:nvPr/>
          </p:nvPicPr>
          <p:blipFill>
            <a:blip r:embed="rId1"/>
            <a:stretch/>
          </p:blipFill>
          <p:spPr>
            <a:xfrm>
              <a:off x="1744560" y="1844640"/>
              <a:ext cx="462780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矩形 20487"/>
            <p:cNvSpPr/>
            <p:nvPr/>
          </p:nvSpPr>
          <p:spPr>
            <a:xfrm>
              <a:off x="2764800" y="36450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红萝卜地有多少平方米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21" name="组合 20488"/>
          <p:cNvGrpSpPr/>
          <p:nvPr/>
        </p:nvGrpSpPr>
        <p:grpSpPr>
          <a:xfrm>
            <a:off x="804960" y="5256360"/>
            <a:ext cx="7705800" cy="1290960"/>
            <a:chOff x="804960" y="5256360"/>
            <a:chExt cx="7705800" cy="1290960"/>
          </a:xfrm>
        </p:grpSpPr>
        <p:sp>
          <p:nvSpPr>
            <p:cNvPr id="522" name="TextBox 36"/>
            <p:cNvSpPr/>
            <p:nvPr/>
          </p:nvSpPr>
          <p:spPr>
            <a:xfrm>
              <a:off x="804960" y="5356080"/>
              <a:ext cx="770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红萝卜地的面积占整块萝卜地的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（把种各种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萝卜的面积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红萝卜占其中的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23" name="组合 20490"/>
            <p:cNvGrpSpPr/>
            <p:nvPr/>
          </p:nvGrpSpPr>
          <p:grpSpPr>
            <a:xfrm>
              <a:off x="6094800" y="5256360"/>
              <a:ext cx="521640" cy="815040"/>
              <a:chOff x="6094800" y="5256360"/>
              <a:chExt cx="521640" cy="815040"/>
            </a:xfrm>
          </p:grpSpPr>
          <p:sp>
            <p:nvSpPr>
              <p:cNvPr id="524" name="文本框 20491"/>
              <p:cNvSpPr/>
              <p:nvPr/>
            </p:nvSpPr>
            <p:spPr>
              <a:xfrm>
                <a:off x="6112080" y="56116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5" name="文本框 20492"/>
              <p:cNvSpPr/>
              <p:nvPr/>
            </p:nvSpPr>
            <p:spPr>
              <a:xfrm>
                <a:off x="6116760" y="5256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6" name="直接连接符 20493"/>
              <p:cNvSpPr/>
              <p:nvPr/>
            </p:nvSpPr>
            <p:spPr>
              <a:xfrm>
                <a:off x="6094800" y="56750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27" name="矩形 20494"/>
          <p:cNvSpPr/>
          <p:nvPr/>
        </p:nvSpPr>
        <p:spPr>
          <a:xfrm>
            <a:off x="7038720" y="3500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矩形 20495"/>
          <p:cNvSpPr/>
          <p:nvPr/>
        </p:nvSpPr>
        <p:spPr>
          <a:xfrm>
            <a:off x="7254720" y="371628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55640" y="2205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示意图表示出题目的意思吗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744480" y="29131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解答这道题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3" name="Object 7" descr=""/>
          <p:cNvPicPr/>
          <p:nvPr/>
        </p:nvPicPr>
        <p:blipFill>
          <a:blip r:embed="rId1"/>
          <a:stretch/>
        </p:blipFill>
        <p:spPr>
          <a:xfrm>
            <a:off x="2198520" y="4511520"/>
            <a:ext cx="1582920" cy="10782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8"/>
          <p:cNvSpPr/>
          <p:nvPr/>
        </p:nvSpPr>
        <p:spPr>
          <a:xfrm>
            <a:off x="4084560" y="3683160"/>
            <a:ext cx="505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先求出萝卜地的面积，再求出红萝卜地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143240" y="4941720"/>
            <a:ext cx="5253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请你结合图说说你是怎样想的。（先求出红萝卜地占大棚面积的几分之几，再求出红萝卜地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108000" y="6200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两种方法虽然不同，可以用一个综合算式表示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80 ×     × 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7" name="图片 21513" descr="15"/>
          <p:cNvPicPr/>
          <p:nvPr/>
        </p:nvPicPr>
        <p:blipFill>
          <a:blip r:embed="rId2"/>
          <a:stretch/>
        </p:blipFill>
        <p:spPr>
          <a:xfrm>
            <a:off x="5292720" y="1700280"/>
            <a:ext cx="2781360" cy="1977840"/>
          </a:xfrm>
          <a:prstGeom prst="rect">
            <a:avLst/>
          </a:prstGeom>
          <a:ln w="0">
            <a:noFill/>
          </a:ln>
        </p:spPr>
      </p:pic>
      <p:grpSp>
        <p:nvGrpSpPr>
          <p:cNvPr id="538" name="组合 21514"/>
          <p:cNvGrpSpPr/>
          <p:nvPr/>
        </p:nvGrpSpPr>
        <p:grpSpPr>
          <a:xfrm>
            <a:off x="6334200" y="5967360"/>
            <a:ext cx="522360" cy="815400"/>
            <a:chOff x="6334200" y="5967360"/>
            <a:chExt cx="522360" cy="815400"/>
          </a:xfrm>
        </p:grpSpPr>
        <p:sp>
          <p:nvSpPr>
            <p:cNvPr id="539" name="文本框 21515"/>
            <p:cNvSpPr/>
            <p:nvPr/>
          </p:nvSpPr>
          <p:spPr>
            <a:xfrm>
              <a:off x="6351840" y="6323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文本框 21516"/>
            <p:cNvSpPr/>
            <p:nvPr/>
          </p:nvSpPr>
          <p:spPr>
            <a:xfrm>
              <a:off x="6356520" y="596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直接连接符 21517"/>
            <p:cNvSpPr/>
            <p:nvPr/>
          </p:nvSpPr>
          <p:spPr>
            <a:xfrm>
              <a:off x="6334200" y="6386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42" name="组合 21518"/>
          <p:cNvGrpSpPr/>
          <p:nvPr/>
        </p:nvGrpSpPr>
        <p:grpSpPr>
          <a:xfrm>
            <a:off x="112680" y="3500280"/>
            <a:ext cx="4388040" cy="1442160"/>
            <a:chOff x="112680" y="3500280"/>
            <a:chExt cx="4388040" cy="1442160"/>
          </a:xfrm>
        </p:grpSpPr>
        <p:sp>
          <p:nvSpPr>
            <p:cNvPr id="543" name="Text Box 11"/>
            <p:cNvSpPr/>
            <p:nvPr/>
          </p:nvSpPr>
          <p:spPr>
            <a:xfrm>
              <a:off x="112680" y="37112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4" name="组合 21520"/>
            <p:cNvGrpSpPr/>
            <p:nvPr/>
          </p:nvGrpSpPr>
          <p:grpSpPr>
            <a:xfrm>
              <a:off x="971640" y="3500280"/>
              <a:ext cx="3529080" cy="1442160"/>
              <a:chOff x="971640" y="3500280"/>
              <a:chExt cx="3529080" cy="1442160"/>
            </a:xfrm>
          </p:grpSpPr>
          <p:grpSp>
            <p:nvGrpSpPr>
              <p:cNvPr id="545" name="组合 21521"/>
              <p:cNvGrpSpPr/>
              <p:nvPr/>
            </p:nvGrpSpPr>
            <p:grpSpPr>
              <a:xfrm>
                <a:off x="971640" y="3500280"/>
                <a:ext cx="3529080" cy="815400"/>
                <a:chOff x="971640" y="3500280"/>
                <a:chExt cx="3529080" cy="815400"/>
              </a:xfrm>
            </p:grpSpPr>
            <p:grpSp>
              <p:nvGrpSpPr>
                <p:cNvPr id="546" name="组合 21522"/>
                <p:cNvGrpSpPr/>
                <p:nvPr/>
              </p:nvGrpSpPr>
              <p:grpSpPr>
                <a:xfrm>
                  <a:off x="1785960" y="3500280"/>
                  <a:ext cx="522360" cy="815400"/>
                  <a:chOff x="1785960" y="3500280"/>
                  <a:chExt cx="522360" cy="815400"/>
                </a:xfrm>
              </p:grpSpPr>
              <p:sp>
                <p:nvSpPr>
                  <p:cNvPr id="547" name="文本框 21523"/>
                  <p:cNvSpPr/>
                  <p:nvPr/>
                </p:nvSpPr>
                <p:spPr>
                  <a:xfrm>
                    <a:off x="1803600" y="38559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48" name="文本框 21524"/>
                  <p:cNvSpPr/>
                  <p:nvPr/>
                </p:nvSpPr>
                <p:spPr>
                  <a:xfrm>
                    <a:off x="1808280" y="35002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49" name="直接连接符 21525"/>
                  <p:cNvSpPr/>
                  <p:nvPr/>
                </p:nvSpPr>
                <p:spPr>
                  <a:xfrm>
                    <a:off x="1785960" y="39193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550" name="文本框 21526"/>
                <p:cNvSpPr/>
                <p:nvPr/>
              </p:nvSpPr>
              <p:spPr>
                <a:xfrm>
                  <a:off x="971640" y="3719520"/>
                  <a:ext cx="352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8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平方米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551" name="组合 21527"/>
              <p:cNvGrpSpPr/>
              <p:nvPr/>
            </p:nvGrpSpPr>
            <p:grpSpPr>
              <a:xfrm>
                <a:off x="971640" y="4127400"/>
                <a:ext cx="3529080" cy="815040"/>
                <a:chOff x="971640" y="4127400"/>
                <a:chExt cx="3529080" cy="815040"/>
              </a:xfrm>
            </p:grpSpPr>
            <p:grpSp>
              <p:nvGrpSpPr>
                <p:cNvPr id="552" name="组合 21528"/>
                <p:cNvGrpSpPr/>
                <p:nvPr/>
              </p:nvGrpSpPr>
              <p:grpSpPr>
                <a:xfrm>
                  <a:off x="1785960" y="4127400"/>
                  <a:ext cx="522360" cy="815040"/>
                  <a:chOff x="1785960" y="4127400"/>
                  <a:chExt cx="522360" cy="815040"/>
                </a:xfrm>
              </p:grpSpPr>
              <p:sp>
                <p:nvSpPr>
                  <p:cNvPr id="553" name="文本框 21529"/>
                  <p:cNvSpPr/>
                  <p:nvPr/>
                </p:nvSpPr>
                <p:spPr>
                  <a:xfrm>
                    <a:off x="1803600" y="44827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54" name="文本框 21530"/>
                  <p:cNvSpPr/>
                  <p:nvPr/>
                </p:nvSpPr>
                <p:spPr>
                  <a:xfrm>
                    <a:off x="1808280" y="41274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55" name="直接连接符 21531"/>
                  <p:cNvSpPr/>
                  <p:nvPr/>
                </p:nvSpPr>
                <p:spPr>
                  <a:xfrm>
                    <a:off x="1785960" y="45460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556" name="文本框 21532"/>
                <p:cNvSpPr/>
                <p:nvPr/>
              </p:nvSpPr>
              <p:spPr>
                <a:xfrm>
                  <a:off x="971640" y="4346280"/>
                  <a:ext cx="3529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40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×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60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（平方米）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557" name="组合 21533"/>
          <p:cNvGrpSpPr/>
          <p:nvPr/>
        </p:nvGrpSpPr>
        <p:grpSpPr>
          <a:xfrm>
            <a:off x="88920" y="4857840"/>
            <a:ext cx="4422600" cy="1480320"/>
            <a:chOff x="88920" y="4857840"/>
            <a:chExt cx="4422600" cy="1480320"/>
          </a:xfrm>
        </p:grpSpPr>
        <p:sp>
          <p:nvSpPr>
            <p:cNvPr id="558" name="Text Box 14"/>
            <p:cNvSpPr/>
            <p:nvPr/>
          </p:nvSpPr>
          <p:spPr>
            <a:xfrm>
              <a:off x="88920" y="508500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9" name="组合 21535"/>
            <p:cNvGrpSpPr/>
            <p:nvPr/>
          </p:nvGrpSpPr>
          <p:grpSpPr>
            <a:xfrm>
              <a:off x="1049400" y="4857840"/>
              <a:ext cx="2131560" cy="842400"/>
              <a:chOff x="1049400" y="4857840"/>
              <a:chExt cx="2131560" cy="842400"/>
            </a:xfrm>
          </p:grpSpPr>
          <p:grpSp>
            <p:nvGrpSpPr>
              <p:cNvPr id="560" name="组合 21536"/>
              <p:cNvGrpSpPr/>
              <p:nvPr/>
            </p:nvGrpSpPr>
            <p:grpSpPr>
              <a:xfrm>
                <a:off x="1049400" y="4865760"/>
                <a:ext cx="1263240" cy="834480"/>
                <a:chOff x="1049400" y="4865760"/>
                <a:chExt cx="1263240" cy="834480"/>
              </a:xfrm>
            </p:grpSpPr>
            <p:sp>
              <p:nvSpPr>
                <p:cNvPr id="561" name="Text Box 8"/>
                <p:cNvSpPr/>
                <p:nvPr/>
              </p:nvSpPr>
              <p:spPr>
                <a:xfrm>
                  <a:off x="1393560" y="5097600"/>
                  <a:ext cx="338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4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宋体"/>
                    </a:rPr>
                    <a:t>×</a:t>
                  </a: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62" name="组合 21538"/>
                <p:cNvGrpSpPr/>
                <p:nvPr/>
              </p:nvGrpSpPr>
              <p:grpSpPr>
                <a:xfrm>
                  <a:off x="1779480" y="4865760"/>
                  <a:ext cx="533160" cy="815400"/>
                  <a:chOff x="1779480" y="4865760"/>
                  <a:chExt cx="533160" cy="815400"/>
                </a:xfrm>
              </p:grpSpPr>
              <p:sp>
                <p:nvSpPr>
                  <p:cNvPr id="563" name="文本框 21539"/>
                  <p:cNvSpPr/>
                  <p:nvPr/>
                </p:nvSpPr>
                <p:spPr>
                  <a:xfrm>
                    <a:off x="1807920" y="52214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4" name="文本框 21540"/>
                  <p:cNvSpPr/>
                  <p:nvPr/>
                </p:nvSpPr>
                <p:spPr>
                  <a:xfrm>
                    <a:off x="1792080" y="48657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5" name="直接连接符 21541"/>
                  <p:cNvSpPr/>
                  <p:nvPr/>
                </p:nvSpPr>
                <p:spPr>
                  <a:xfrm>
                    <a:off x="1779480" y="52848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566" name="组合 21542"/>
                <p:cNvGrpSpPr/>
                <p:nvPr/>
              </p:nvGrpSpPr>
              <p:grpSpPr>
                <a:xfrm>
                  <a:off x="1049400" y="4884840"/>
                  <a:ext cx="523800" cy="815400"/>
                  <a:chOff x="1049400" y="4884840"/>
                  <a:chExt cx="523800" cy="815400"/>
                </a:xfrm>
              </p:grpSpPr>
              <p:sp>
                <p:nvSpPr>
                  <p:cNvPr id="567" name="文本框 21543"/>
                  <p:cNvSpPr/>
                  <p:nvPr/>
                </p:nvSpPr>
                <p:spPr>
                  <a:xfrm>
                    <a:off x="1068480" y="524052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2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8" name="文本框 21544"/>
                  <p:cNvSpPr/>
                  <p:nvPr/>
                </p:nvSpPr>
                <p:spPr>
                  <a:xfrm>
                    <a:off x="1071720" y="488484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69" name="直接连接符 21545"/>
                  <p:cNvSpPr/>
                  <p:nvPr/>
                </p:nvSpPr>
                <p:spPr>
                  <a:xfrm>
                    <a:off x="1049400" y="53038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组合 21546"/>
              <p:cNvGrpSpPr/>
              <p:nvPr/>
            </p:nvGrpSpPr>
            <p:grpSpPr>
              <a:xfrm>
                <a:off x="2087280" y="4857840"/>
                <a:ext cx="1093680" cy="805680"/>
                <a:chOff x="2087280" y="4857840"/>
                <a:chExt cx="1093680" cy="805680"/>
              </a:xfrm>
            </p:grpSpPr>
            <p:sp>
              <p:nvSpPr>
                <p:cNvPr id="571" name="文本框 21547"/>
                <p:cNvSpPr/>
                <p:nvPr/>
              </p:nvSpPr>
              <p:spPr>
                <a:xfrm>
                  <a:off x="2087280" y="5064120"/>
                  <a:ext cx="36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572" name="组合 21548"/>
                <p:cNvGrpSpPr/>
                <p:nvPr/>
              </p:nvGrpSpPr>
              <p:grpSpPr>
                <a:xfrm>
                  <a:off x="2501640" y="4857840"/>
                  <a:ext cx="679320" cy="805680"/>
                  <a:chOff x="2501640" y="4857840"/>
                  <a:chExt cx="679320" cy="805680"/>
                </a:xfrm>
              </p:grpSpPr>
              <p:sp>
                <p:nvSpPr>
                  <p:cNvPr id="573" name="文本框 21549"/>
                  <p:cNvSpPr/>
                  <p:nvPr/>
                </p:nvSpPr>
                <p:spPr>
                  <a:xfrm>
                    <a:off x="2507760" y="520380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74" name="文本框 21550"/>
                  <p:cNvSpPr/>
                  <p:nvPr/>
                </p:nvSpPr>
                <p:spPr>
                  <a:xfrm>
                    <a:off x="2501640" y="4857840"/>
                    <a:ext cx="6793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575" name="直接连接符 21551"/>
                  <p:cNvSpPr/>
                  <p:nvPr/>
                </p:nvSpPr>
                <p:spPr>
                  <a:xfrm>
                    <a:off x="2520360" y="5280120"/>
                    <a:ext cx="287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6" name="组合 21552"/>
            <p:cNvGrpSpPr/>
            <p:nvPr/>
          </p:nvGrpSpPr>
          <p:grpSpPr>
            <a:xfrm>
              <a:off x="982800" y="5523120"/>
              <a:ext cx="3528720" cy="815040"/>
              <a:chOff x="982800" y="5523120"/>
              <a:chExt cx="3528720" cy="815040"/>
            </a:xfrm>
          </p:grpSpPr>
          <p:grpSp>
            <p:nvGrpSpPr>
              <p:cNvPr id="577" name="组合 21553"/>
              <p:cNvGrpSpPr/>
              <p:nvPr/>
            </p:nvGrpSpPr>
            <p:grpSpPr>
              <a:xfrm>
                <a:off x="1796760" y="5523120"/>
                <a:ext cx="521640" cy="815040"/>
                <a:chOff x="1796760" y="5523120"/>
                <a:chExt cx="521640" cy="815040"/>
              </a:xfrm>
            </p:grpSpPr>
            <p:sp>
              <p:nvSpPr>
                <p:cNvPr id="578" name="文本框 21554"/>
                <p:cNvSpPr/>
                <p:nvPr/>
              </p:nvSpPr>
              <p:spPr>
                <a:xfrm>
                  <a:off x="1814040" y="58784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79" name="文本框 21555"/>
                <p:cNvSpPr/>
                <p:nvPr/>
              </p:nvSpPr>
              <p:spPr>
                <a:xfrm>
                  <a:off x="1818720" y="552312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0" name="直接连接符 21556"/>
                <p:cNvSpPr/>
                <p:nvPr/>
              </p:nvSpPr>
              <p:spPr>
                <a:xfrm>
                  <a:off x="1796760" y="59418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581" name="文本框 21557"/>
              <p:cNvSpPr/>
              <p:nvPr/>
            </p:nvSpPr>
            <p:spPr>
              <a:xfrm>
                <a:off x="982800" y="5742000"/>
                <a:ext cx="352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80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×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0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（平方米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82" name="组合 21558"/>
          <p:cNvGrpSpPr/>
          <p:nvPr/>
        </p:nvGrpSpPr>
        <p:grpSpPr>
          <a:xfrm>
            <a:off x="6929280" y="5972040"/>
            <a:ext cx="522360" cy="815400"/>
            <a:chOff x="6929280" y="5972040"/>
            <a:chExt cx="522360" cy="815400"/>
          </a:xfrm>
        </p:grpSpPr>
        <p:sp>
          <p:nvSpPr>
            <p:cNvPr id="583" name="文本框 21559"/>
            <p:cNvSpPr/>
            <p:nvPr/>
          </p:nvSpPr>
          <p:spPr>
            <a:xfrm>
              <a:off x="6946920" y="6327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文本框 21560"/>
            <p:cNvSpPr/>
            <p:nvPr/>
          </p:nvSpPr>
          <p:spPr>
            <a:xfrm>
              <a:off x="6951600" y="59720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直接连接符 21561"/>
            <p:cNvSpPr/>
            <p:nvPr/>
          </p:nvSpPr>
          <p:spPr>
            <a:xfrm>
              <a:off x="6929280" y="6391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22530" descr=""/>
          <p:cNvPicPr/>
          <p:nvPr/>
        </p:nvPicPr>
        <p:blipFill>
          <a:blip r:embed="rId2"/>
          <a:stretch/>
        </p:blipFill>
        <p:spPr>
          <a:xfrm>
            <a:off x="333360" y="281160"/>
            <a:ext cx="8420040" cy="62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回顾与反思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12720" y="2133720"/>
            <a:ext cx="47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刚才用两种方法求出了红萝卜的面积，那么对不对呢？都可以怎样检查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30360" y="3716280"/>
            <a:ext cx="797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请你结合图说说你检验的思路。（红萝卜的面积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表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萝卜地的面积，再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就是大棚的面积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612720" y="5415120"/>
            <a:ext cx="853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研讨问题：请你结合图说说你检验的思路。（把大棚面积平均分成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红萝卜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，用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份的面积乘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就是大棚的面积。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3" name="组合 23558"/>
          <p:cNvGrpSpPr/>
          <p:nvPr/>
        </p:nvGrpSpPr>
        <p:grpSpPr>
          <a:xfrm>
            <a:off x="617400" y="3116160"/>
            <a:ext cx="4392360" cy="486720"/>
            <a:chOff x="617400" y="3116160"/>
            <a:chExt cx="4392360" cy="486720"/>
          </a:xfrm>
        </p:grpSpPr>
        <p:sp>
          <p:nvSpPr>
            <p:cNvPr id="594" name="Text Box 8"/>
            <p:cNvSpPr/>
            <p:nvPr/>
          </p:nvSpPr>
          <p:spPr>
            <a:xfrm>
              <a:off x="617400" y="31161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Text Box 9"/>
            <p:cNvSpPr/>
            <p:nvPr/>
          </p:nvSpPr>
          <p:spPr>
            <a:xfrm>
              <a:off x="1625400" y="314316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×4×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8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 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6" name="图片 23561" descr="15"/>
          <p:cNvPicPr/>
          <p:nvPr/>
        </p:nvPicPr>
        <p:blipFill>
          <a:blip r:embed="rId1"/>
          <a:stretch/>
        </p:blipFill>
        <p:spPr>
          <a:xfrm>
            <a:off x="5292720" y="1700280"/>
            <a:ext cx="2781360" cy="197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7" name="对象 23562"/>
          <p:cNvGraphicFramePr/>
          <p:nvPr/>
        </p:nvGraphicFramePr>
        <p:xfrm>
          <a:off x="3684600" y="3038400"/>
          <a:ext cx="52236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8" name="对象 235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84600" y="3038400"/>
                    <a:ext cx="5223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9" name="组合 23563"/>
          <p:cNvGrpSpPr/>
          <p:nvPr/>
        </p:nvGrpSpPr>
        <p:grpSpPr>
          <a:xfrm>
            <a:off x="571680" y="4813200"/>
            <a:ext cx="4768560" cy="684360"/>
            <a:chOff x="571680" y="4813200"/>
            <a:chExt cx="4768560" cy="684360"/>
          </a:xfrm>
        </p:grpSpPr>
        <p:sp>
          <p:nvSpPr>
            <p:cNvPr id="600" name="Text Box 11"/>
            <p:cNvSpPr/>
            <p:nvPr/>
          </p:nvSpPr>
          <p:spPr>
            <a:xfrm>
              <a:off x="571680" y="48927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Text Box 12"/>
            <p:cNvSpPr/>
            <p:nvPr/>
          </p:nvSpPr>
          <p:spPr>
            <a:xfrm>
              <a:off x="1569960" y="4903920"/>
              <a:ext cx="37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60×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×2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80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aphicFrame>
          <p:nvGraphicFramePr>
            <p:cNvPr id="602" name="对象 23566"/>
            <p:cNvGraphicFramePr/>
            <p:nvPr/>
          </p:nvGraphicFramePr>
          <p:xfrm>
            <a:off x="4118040" y="4813200"/>
            <a:ext cx="522360" cy="684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03" name="对象 235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18040" y="4813200"/>
                      <a:ext cx="522360" cy="68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</a:rPr>
              <a:t>二、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巩固练习，提升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4520" y="5899320"/>
            <a:ext cx="14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3873600" y="590076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7" name="图片 24580" descr="16"/>
          <p:cNvPicPr/>
          <p:nvPr/>
        </p:nvPicPr>
        <p:blipFill>
          <a:blip r:embed="rId1"/>
          <a:stretch/>
        </p:blipFill>
        <p:spPr>
          <a:xfrm>
            <a:off x="1870200" y="1282680"/>
            <a:ext cx="5510160" cy="180036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4581"/>
          <p:cNvGrpSpPr/>
          <p:nvPr/>
        </p:nvGrpSpPr>
        <p:grpSpPr>
          <a:xfrm>
            <a:off x="828720" y="2941560"/>
            <a:ext cx="7138800" cy="2757960"/>
            <a:chOff x="828720" y="2941560"/>
            <a:chExt cx="7138800" cy="2757960"/>
          </a:xfrm>
        </p:grpSpPr>
        <p:sp>
          <p:nvSpPr>
            <p:cNvPr id="609" name="左大括号 24582"/>
            <p:cNvSpPr/>
            <p:nvPr/>
          </p:nvSpPr>
          <p:spPr>
            <a:xfrm rot="5400000">
              <a:off x="4537800" y="234000"/>
              <a:ext cx="282600" cy="6408720"/>
            </a:xfrm>
            <a:custGeom>
              <a:avLst/>
              <a:gdLst>
                <a:gd name="textAreaLeft" fmla="*/ 180720 w 282600"/>
                <a:gd name="textAreaRight" fmla="*/ 282960 w 282600"/>
                <a:gd name="textAreaTop" fmla="*/ 167040 h 6408720"/>
                <a:gd name="textAreaBottom" fmla="*/ 6241680 h 640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文本框 24583"/>
            <p:cNvSpPr/>
            <p:nvPr/>
          </p:nvSpPr>
          <p:spPr>
            <a:xfrm>
              <a:off x="4245120" y="29415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11" name="组合 24584"/>
            <p:cNvGrpSpPr/>
            <p:nvPr/>
          </p:nvGrpSpPr>
          <p:grpSpPr>
            <a:xfrm>
              <a:off x="828720" y="3344760"/>
              <a:ext cx="7138800" cy="2354760"/>
              <a:chOff x="828720" y="3344760"/>
              <a:chExt cx="7138800" cy="2354760"/>
            </a:xfrm>
          </p:grpSpPr>
          <p:grpSp>
            <p:nvGrpSpPr>
              <p:cNvPr id="612" name="组合 24585"/>
              <p:cNvGrpSpPr/>
              <p:nvPr/>
            </p:nvGrpSpPr>
            <p:grpSpPr>
              <a:xfrm>
                <a:off x="1476360" y="4508640"/>
                <a:ext cx="6478560" cy="155520"/>
                <a:chOff x="1476360" y="4508640"/>
                <a:chExt cx="6478560" cy="155520"/>
              </a:xfrm>
            </p:grpSpPr>
            <p:grpSp>
              <p:nvGrpSpPr>
                <p:cNvPr id="613" name="组合 24586"/>
                <p:cNvGrpSpPr/>
                <p:nvPr/>
              </p:nvGrpSpPr>
              <p:grpSpPr>
                <a:xfrm>
                  <a:off x="1476360" y="4508640"/>
                  <a:ext cx="6478560" cy="155520"/>
                  <a:chOff x="1476360" y="4508640"/>
                  <a:chExt cx="6478560" cy="155520"/>
                </a:xfrm>
              </p:grpSpPr>
              <p:grpSp>
                <p:nvGrpSpPr>
                  <p:cNvPr id="614" name="组合 24587"/>
                  <p:cNvGrpSpPr/>
                  <p:nvPr/>
                </p:nvGrpSpPr>
                <p:grpSpPr>
                  <a:xfrm>
                    <a:off x="1476360" y="4508640"/>
                    <a:ext cx="6478560" cy="155520"/>
                    <a:chOff x="1476360" y="4508640"/>
                    <a:chExt cx="6478560" cy="155520"/>
                  </a:xfrm>
                </p:grpSpPr>
                <p:sp>
                  <p:nvSpPr>
                    <p:cNvPr id="615" name="直接连接符 24588"/>
                    <p:cNvSpPr/>
                    <p:nvPr/>
                  </p:nvSpPr>
                  <p:spPr>
                    <a:xfrm>
                      <a:off x="1476360" y="4653000"/>
                      <a:ext cx="647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616" name="直接连接符 24589"/>
                    <p:cNvSpPr/>
                    <p:nvPr/>
                  </p:nvSpPr>
                  <p:spPr>
                    <a:xfrm>
                      <a:off x="1482840" y="4508640"/>
                      <a:ext cx="0" cy="14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617" name="直接连接符 24590"/>
                    <p:cNvSpPr/>
                    <p:nvPr/>
                  </p:nvSpPr>
                  <p:spPr>
                    <a:xfrm flipH="1">
                      <a:off x="7947000" y="4519800"/>
                      <a:ext cx="6480" cy="14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618" name="直接连接符 24591"/>
                  <p:cNvSpPr/>
                  <p:nvPr/>
                </p:nvSpPr>
                <p:spPr>
                  <a:xfrm>
                    <a:off x="3635280" y="4508640"/>
                    <a:ext cx="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19" name="直接连接符 24592"/>
                  <p:cNvSpPr/>
                  <p:nvPr/>
                </p:nvSpPr>
                <p:spPr>
                  <a:xfrm>
                    <a:off x="5796000" y="4508640"/>
                    <a:ext cx="0" cy="144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20" name="直接连接符 24593"/>
                <p:cNvSpPr/>
                <p:nvPr/>
              </p:nvSpPr>
              <p:spPr>
                <a:xfrm>
                  <a:off x="255600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1" name="直接连接符 24594"/>
                <p:cNvSpPr/>
                <p:nvPr/>
              </p:nvSpPr>
              <p:spPr>
                <a:xfrm>
                  <a:off x="202392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22" name="直接连接符 24595"/>
                <p:cNvSpPr/>
                <p:nvPr/>
              </p:nvSpPr>
              <p:spPr>
                <a:xfrm>
                  <a:off x="3103560" y="4508640"/>
                  <a:ext cx="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623" name="组合 24596"/>
              <p:cNvGrpSpPr/>
              <p:nvPr/>
            </p:nvGrpSpPr>
            <p:grpSpPr>
              <a:xfrm>
                <a:off x="828720" y="3852720"/>
                <a:ext cx="4751280" cy="645120"/>
                <a:chOff x="828720" y="3852720"/>
                <a:chExt cx="4751280" cy="645120"/>
              </a:xfrm>
            </p:grpSpPr>
            <p:sp>
              <p:nvSpPr>
                <p:cNvPr id="624" name="文本框 24597"/>
                <p:cNvSpPr/>
                <p:nvPr/>
              </p:nvSpPr>
              <p:spPr>
                <a:xfrm>
                  <a:off x="828720" y="4025520"/>
                  <a:ext cx="4751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想成为科学家的人数是想当老师人数的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625" name="组合 24598"/>
                <p:cNvGrpSpPr/>
                <p:nvPr/>
              </p:nvGrpSpPr>
              <p:grpSpPr>
                <a:xfrm>
                  <a:off x="4173480" y="3852720"/>
                  <a:ext cx="504720" cy="645120"/>
                  <a:chOff x="4173480" y="3852720"/>
                  <a:chExt cx="504720" cy="645120"/>
                </a:xfrm>
              </p:grpSpPr>
              <p:sp>
                <p:nvSpPr>
                  <p:cNvPr id="626" name="文本框 24599"/>
                  <p:cNvSpPr/>
                  <p:nvPr/>
                </p:nvSpPr>
                <p:spPr>
                  <a:xfrm>
                    <a:off x="4173480" y="4130280"/>
                    <a:ext cx="50472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7" name="文本框 24600"/>
                  <p:cNvSpPr/>
                  <p:nvPr/>
                </p:nvSpPr>
                <p:spPr>
                  <a:xfrm>
                    <a:off x="4178160" y="3852720"/>
                    <a:ext cx="36036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28" name="直接连接符 24601"/>
                  <p:cNvSpPr/>
                  <p:nvPr/>
                </p:nvSpPr>
                <p:spPr>
                  <a:xfrm>
                    <a:off x="4211640" y="41940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629" name="左大括号 24602"/>
              <p:cNvSpPr/>
              <p:nvPr/>
            </p:nvSpPr>
            <p:spPr>
              <a:xfrm rot="5400000">
                <a:off x="2196000" y="3583440"/>
                <a:ext cx="204840" cy="1619280"/>
              </a:xfrm>
              <a:custGeom>
                <a:avLst/>
                <a:gdLst>
                  <a:gd name="textAreaLeft" fmla="*/ 131040 w 204840"/>
                  <a:gd name="textAreaRight" fmla="*/ 205200 w 204840"/>
                  <a:gd name="textAreaTop" fmla="*/ 42120 h 1619280"/>
                  <a:gd name="textAreaBottom" fmla="*/ 1577160 h 16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0" name="左大括号 24603"/>
              <p:cNvSpPr/>
              <p:nvPr/>
            </p:nvSpPr>
            <p:spPr>
              <a:xfrm rot="5400000">
                <a:off x="2433240" y="2832120"/>
                <a:ext cx="244440" cy="2158920"/>
              </a:xfrm>
              <a:custGeom>
                <a:avLst/>
                <a:gdLst>
                  <a:gd name="textAreaLeft" fmla="*/ 156240 w 244440"/>
                  <a:gd name="textAreaRight" fmla="*/ 244440 w 244440"/>
                  <a:gd name="textAreaTop" fmla="*/ 56160 h 2158920"/>
                  <a:gd name="textAreaBottom" fmla="*/ 2102760 h 215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31" name="组合 24604"/>
              <p:cNvGrpSpPr/>
              <p:nvPr/>
            </p:nvGrpSpPr>
            <p:grpSpPr>
              <a:xfrm>
                <a:off x="1901880" y="3344760"/>
                <a:ext cx="1422360" cy="645120"/>
                <a:chOff x="1901880" y="3344760"/>
                <a:chExt cx="1422360" cy="645120"/>
              </a:xfrm>
            </p:grpSpPr>
            <p:grpSp>
              <p:nvGrpSpPr>
                <p:cNvPr id="632" name="组合 24605"/>
                <p:cNvGrpSpPr/>
                <p:nvPr/>
              </p:nvGrpSpPr>
              <p:grpSpPr>
                <a:xfrm>
                  <a:off x="1901880" y="3344760"/>
                  <a:ext cx="504720" cy="645120"/>
                  <a:chOff x="1901880" y="3344760"/>
                  <a:chExt cx="504720" cy="645120"/>
                </a:xfrm>
              </p:grpSpPr>
              <p:sp>
                <p:nvSpPr>
                  <p:cNvPr id="633" name="文本框 24606"/>
                  <p:cNvSpPr/>
                  <p:nvPr/>
                </p:nvSpPr>
                <p:spPr>
                  <a:xfrm>
                    <a:off x="1901880" y="3622320"/>
                    <a:ext cx="50472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3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4" name="文本框 24607"/>
                  <p:cNvSpPr/>
                  <p:nvPr/>
                </p:nvSpPr>
                <p:spPr>
                  <a:xfrm>
                    <a:off x="1906560" y="3344760"/>
                    <a:ext cx="360360" cy="367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938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5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15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635" name="直接连接符 24608"/>
                  <p:cNvSpPr/>
                  <p:nvPr/>
                </p:nvSpPr>
                <p:spPr>
                  <a:xfrm>
                    <a:off x="1940040" y="368604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636" name="文本框 24609"/>
                <p:cNvSpPr/>
                <p:nvPr/>
              </p:nvSpPr>
              <p:spPr>
                <a:xfrm>
                  <a:off x="2100240" y="3500280"/>
                  <a:ext cx="122400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想成为老师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637" name="左大括号 24610"/>
              <p:cNvSpPr/>
              <p:nvPr/>
            </p:nvSpPr>
            <p:spPr>
              <a:xfrm rot="16200000">
                <a:off x="2212200" y="3984840"/>
                <a:ext cx="144360" cy="1619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42120 h 1619280"/>
                  <a:gd name="textAreaBottom" fmla="*/ 1577160 h 161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638" name="组合 24611"/>
              <p:cNvGrpSpPr/>
              <p:nvPr/>
            </p:nvGrpSpPr>
            <p:grpSpPr>
              <a:xfrm>
                <a:off x="1320840" y="4830840"/>
                <a:ext cx="6646680" cy="868680"/>
                <a:chOff x="1320840" y="4830840"/>
                <a:chExt cx="6646680" cy="868680"/>
              </a:xfrm>
            </p:grpSpPr>
            <p:sp>
              <p:nvSpPr>
                <p:cNvPr id="639" name="左大括号 24612"/>
                <p:cNvSpPr/>
                <p:nvPr/>
              </p:nvSpPr>
              <p:spPr>
                <a:xfrm rot="16200000">
                  <a:off x="4608360" y="2014560"/>
                  <a:ext cx="238320" cy="6480000"/>
                </a:xfrm>
                <a:custGeom>
                  <a:avLst/>
                  <a:gdLst>
                    <a:gd name="textAreaLeft" fmla="*/ 152280 w 238320"/>
                    <a:gd name="textAreaRight" fmla="*/ 238680 w 238320"/>
                    <a:gd name="textAreaTop" fmla="*/ 168840 h 6480000"/>
                    <a:gd name="textAreaBottom" fmla="*/ 6311160 h 6480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0" name="文本框 24613"/>
                <p:cNvSpPr/>
                <p:nvPr/>
              </p:nvSpPr>
              <p:spPr>
                <a:xfrm>
                  <a:off x="1320840" y="4830840"/>
                  <a:ext cx="3527280" cy="32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5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多少名同学想成为科学家？</a:t>
                  </a:r>
                  <a:endParaRPr b="0" i="1" lang="en-US" sz="15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641" name="文本框 24614"/>
                <p:cNvSpPr/>
                <p:nvPr/>
              </p:nvSpPr>
              <p:spPr>
                <a:xfrm>
                  <a:off x="4389480" y="5300640"/>
                  <a:ext cx="936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6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人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642" name="组合 24615"/>
          <p:cNvGrpSpPr/>
          <p:nvPr/>
        </p:nvGrpSpPr>
        <p:grpSpPr>
          <a:xfrm>
            <a:off x="914400" y="5694480"/>
            <a:ext cx="3095640" cy="819720"/>
            <a:chOff x="914400" y="5694480"/>
            <a:chExt cx="3095640" cy="819720"/>
          </a:xfrm>
        </p:grpSpPr>
        <p:sp>
          <p:nvSpPr>
            <p:cNvPr id="643" name="Text Box 16"/>
            <p:cNvSpPr/>
            <p:nvPr/>
          </p:nvSpPr>
          <p:spPr>
            <a:xfrm>
              <a:off x="914400" y="59166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 ×     ×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9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人）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4" name="文本框 24617"/>
            <p:cNvSpPr/>
            <p:nvPr/>
          </p:nvSpPr>
          <p:spPr>
            <a:xfrm>
              <a:off x="1623960" y="6049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文本框 24618"/>
            <p:cNvSpPr/>
            <p:nvPr/>
          </p:nvSpPr>
          <p:spPr>
            <a:xfrm>
              <a:off x="1628640" y="569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6" name="直接连接符 24619"/>
            <p:cNvSpPr/>
            <p:nvPr/>
          </p:nvSpPr>
          <p:spPr>
            <a:xfrm>
              <a:off x="1606680" y="61131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7" name="文本框 24620"/>
            <p:cNvSpPr/>
            <p:nvPr/>
          </p:nvSpPr>
          <p:spPr>
            <a:xfrm>
              <a:off x="2219400" y="60544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8" name="文本框 24621"/>
            <p:cNvSpPr/>
            <p:nvPr/>
          </p:nvSpPr>
          <p:spPr>
            <a:xfrm>
              <a:off x="2224080" y="56991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9" name="直接连接符 24622"/>
            <p:cNvSpPr/>
            <p:nvPr/>
          </p:nvSpPr>
          <p:spPr>
            <a:xfrm>
              <a:off x="2201760" y="61182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0" name="组合 24623"/>
          <p:cNvGrpSpPr/>
          <p:nvPr/>
        </p:nvGrpSpPr>
        <p:grpSpPr>
          <a:xfrm>
            <a:off x="4732200" y="5695920"/>
            <a:ext cx="4385160" cy="820080"/>
            <a:chOff x="4732200" y="5695920"/>
            <a:chExt cx="4385160" cy="820080"/>
          </a:xfrm>
        </p:grpSpPr>
        <p:grpSp>
          <p:nvGrpSpPr>
            <p:cNvPr id="651" name="组合 24624"/>
            <p:cNvGrpSpPr/>
            <p:nvPr/>
          </p:nvGrpSpPr>
          <p:grpSpPr>
            <a:xfrm>
              <a:off x="7612200" y="5695920"/>
              <a:ext cx="521640" cy="815400"/>
              <a:chOff x="7612200" y="5695920"/>
              <a:chExt cx="521640" cy="815400"/>
            </a:xfrm>
          </p:grpSpPr>
          <p:sp>
            <p:nvSpPr>
              <p:cNvPr id="652" name="文本框 24625"/>
              <p:cNvSpPr/>
              <p:nvPr/>
            </p:nvSpPr>
            <p:spPr>
              <a:xfrm>
                <a:off x="7629480" y="60516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3" name="文本框 24626"/>
              <p:cNvSpPr/>
              <p:nvPr/>
            </p:nvSpPr>
            <p:spPr>
              <a:xfrm>
                <a:off x="7634160" y="56959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4" name="直接连接符 24627"/>
              <p:cNvSpPr/>
              <p:nvPr/>
            </p:nvSpPr>
            <p:spPr>
              <a:xfrm>
                <a:off x="7612200" y="61149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55" name="Text Box 16"/>
            <p:cNvSpPr/>
            <p:nvPr/>
          </p:nvSpPr>
          <p:spPr>
            <a:xfrm>
              <a:off x="4732200" y="5918040"/>
              <a:ext cx="398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 ×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    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×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＝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6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6" name="文本框 24629"/>
            <p:cNvSpPr/>
            <p:nvPr/>
          </p:nvSpPr>
          <p:spPr>
            <a:xfrm>
              <a:off x="5680080" y="605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7" name="文本框 24630"/>
            <p:cNvSpPr/>
            <p:nvPr/>
          </p:nvSpPr>
          <p:spPr>
            <a:xfrm>
              <a:off x="5684760" y="5695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8" name="直接连接符 24631"/>
            <p:cNvSpPr/>
            <p:nvPr/>
          </p:nvSpPr>
          <p:spPr>
            <a:xfrm>
              <a:off x="5662440" y="6114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9" name="文本框 24632"/>
            <p:cNvSpPr/>
            <p:nvPr/>
          </p:nvSpPr>
          <p:spPr>
            <a:xfrm>
              <a:off x="6275520" y="6056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0" name="文本框 24633"/>
            <p:cNvSpPr/>
            <p:nvPr/>
          </p:nvSpPr>
          <p:spPr>
            <a:xfrm>
              <a:off x="6280200" y="57006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1" name="直接连接符 24634"/>
            <p:cNvSpPr/>
            <p:nvPr/>
          </p:nvSpPr>
          <p:spPr>
            <a:xfrm>
              <a:off x="6257880" y="6119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2" name="矩形 24635"/>
            <p:cNvSpPr/>
            <p:nvPr/>
          </p:nvSpPr>
          <p:spPr>
            <a:xfrm>
              <a:off x="8063640" y="5921280"/>
              <a:ext cx="105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人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6" name="组合 25605"/>
          <p:cNvGrpSpPr/>
          <p:nvPr/>
        </p:nvGrpSpPr>
        <p:grpSpPr>
          <a:xfrm>
            <a:off x="733320" y="2165400"/>
            <a:ext cx="7726320" cy="1191240"/>
            <a:chOff x="733320" y="2165400"/>
            <a:chExt cx="7726320" cy="1191240"/>
          </a:xfrm>
        </p:grpSpPr>
        <p:sp>
          <p:nvSpPr>
            <p:cNvPr id="667" name="Text Box 7"/>
            <p:cNvSpPr/>
            <p:nvPr/>
          </p:nvSpPr>
          <p:spPr>
            <a:xfrm>
              <a:off x="733320" y="2165400"/>
              <a:ext cx="772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心脏跳动的次数随年龄而变化。青少年心跳每分钟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，婴儿每分钟心跳的次数比青少年多      。婴儿每分钟心跳多少次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68" name="组合 25607"/>
            <p:cNvGrpSpPr/>
            <p:nvPr/>
          </p:nvGrpSpPr>
          <p:grpSpPr>
            <a:xfrm>
              <a:off x="4665600" y="2509920"/>
              <a:ext cx="522360" cy="815400"/>
              <a:chOff x="4665600" y="2509920"/>
              <a:chExt cx="522360" cy="815400"/>
            </a:xfrm>
          </p:grpSpPr>
          <p:sp>
            <p:nvSpPr>
              <p:cNvPr id="669" name="文本框 25608"/>
              <p:cNvSpPr/>
              <p:nvPr/>
            </p:nvSpPr>
            <p:spPr>
              <a:xfrm>
                <a:off x="4683240" y="28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0" name="文本框 25609"/>
              <p:cNvSpPr/>
              <p:nvPr/>
            </p:nvSpPr>
            <p:spPr>
              <a:xfrm>
                <a:off x="4687920" y="25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1" name="直接连接符 25610"/>
              <p:cNvSpPr/>
              <p:nvPr/>
            </p:nvSpPr>
            <p:spPr>
              <a:xfrm>
                <a:off x="4665600" y="29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72" name="组合 25630"/>
          <p:cNvGrpSpPr/>
          <p:nvPr/>
        </p:nvGrpSpPr>
        <p:grpSpPr>
          <a:xfrm>
            <a:off x="473040" y="3571920"/>
            <a:ext cx="8562960" cy="2837160"/>
            <a:chOff x="473040" y="3571920"/>
            <a:chExt cx="8562960" cy="2837160"/>
          </a:xfrm>
        </p:grpSpPr>
        <p:sp>
          <p:nvSpPr>
            <p:cNvPr id="673" name="TextBox 34"/>
            <p:cNvSpPr/>
            <p:nvPr/>
          </p:nvSpPr>
          <p:spPr>
            <a:xfrm>
              <a:off x="473040" y="368928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问题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4" name="TextBox 36"/>
            <p:cNvSpPr/>
            <p:nvPr/>
          </p:nvSpPr>
          <p:spPr>
            <a:xfrm>
              <a:off x="1189080" y="3571920"/>
              <a:ext cx="7846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从题目中你知道了什么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青少年每分钟心跳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婴儿每分钟心跳的次数比青少年多     ，多的部分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  。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的是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每分钟心跳的次数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75" name="组合 25614"/>
            <p:cNvGrpSpPr/>
            <p:nvPr/>
          </p:nvGrpSpPr>
          <p:grpSpPr>
            <a:xfrm>
              <a:off x="5386320" y="4414680"/>
              <a:ext cx="522360" cy="815400"/>
              <a:chOff x="5386320" y="4414680"/>
              <a:chExt cx="522360" cy="815400"/>
            </a:xfrm>
          </p:grpSpPr>
          <p:sp>
            <p:nvSpPr>
              <p:cNvPr id="676" name="文本框 25615"/>
              <p:cNvSpPr/>
              <p:nvPr/>
            </p:nvSpPr>
            <p:spPr>
              <a:xfrm>
                <a:off x="5403960" y="4770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7" name="文本框 25616"/>
              <p:cNvSpPr/>
              <p:nvPr/>
            </p:nvSpPr>
            <p:spPr>
              <a:xfrm>
                <a:off x="5408640" y="4414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78" name="直接连接符 25617"/>
              <p:cNvSpPr/>
              <p:nvPr/>
            </p:nvSpPr>
            <p:spPr>
              <a:xfrm>
                <a:off x="5386320" y="483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79" name="组合 25626"/>
            <p:cNvGrpSpPr/>
            <p:nvPr/>
          </p:nvGrpSpPr>
          <p:grpSpPr>
            <a:xfrm>
              <a:off x="7948440" y="4411800"/>
              <a:ext cx="522360" cy="815040"/>
              <a:chOff x="7948440" y="4411800"/>
              <a:chExt cx="522360" cy="815040"/>
            </a:xfrm>
          </p:grpSpPr>
          <p:sp>
            <p:nvSpPr>
              <p:cNvPr id="680" name="文本框 25627"/>
              <p:cNvSpPr/>
              <p:nvPr/>
            </p:nvSpPr>
            <p:spPr>
              <a:xfrm>
                <a:off x="7966080" y="4767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1" name="文本框 25628"/>
              <p:cNvSpPr/>
              <p:nvPr/>
            </p:nvSpPr>
            <p:spPr>
              <a:xfrm>
                <a:off x="7970760" y="4411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82" name="直接连接符 25629"/>
              <p:cNvSpPr/>
              <p:nvPr/>
            </p:nvSpPr>
            <p:spPr>
              <a:xfrm>
                <a:off x="7948440" y="4830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393840" y="1413000"/>
            <a:ext cx="501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TextBox 34"/>
          <p:cNvSpPr/>
          <p:nvPr/>
        </p:nvSpPr>
        <p:spPr>
          <a:xfrm>
            <a:off x="212760" y="3438360"/>
            <a:ext cx="9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485640" y="87480"/>
            <a:ext cx="38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9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TextBox 36"/>
          <p:cNvSpPr/>
          <p:nvPr/>
        </p:nvSpPr>
        <p:spPr>
          <a:xfrm>
            <a:off x="1042920" y="5445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先画出线段图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8" name="组合 26631"/>
          <p:cNvGrpSpPr/>
          <p:nvPr/>
        </p:nvGrpSpPr>
        <p:grpSpPr>
          <a:xfrm>
            <a:off x="733320" y="2165400"/>
            <a:ext cx="7726320" cy="1191240"/>
            <a:chOff x="733320" y="2165400"/>
            <a:chExt cx="7726320" cy="1191240"/>
          </a:xfrm>
        </p:grpSpPr>
        <p:sp>
          <p:nvSpPr>
            <p:cNvPr id="689" name="Text Box 7"/>
            <p:cNvSpPr/>
            <p:nvPr/>
          </p:nvSpPr>
          <p:spPr>
            <a:xfrm>
              <a:off x="733320" y="2165400"/>
              <a:ext cx="7726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心脏跳动的次数随年龄而变化。青少年心跳每分钟约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7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，婴儿每分钟心跳的次数比青少年多      。婴儿每分钟心跳多少次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0" name="组合 26633"/>
            <p:cNvGrpSpPr/>
            <p:nvPr/>
          </p:nvGrpSpPr>
          <p:grpSpPr>
            <a:xfrm>
              <a:off x="4665600" y="2509920"/>
              <a:ext cx="522360" cy="815400"/>
              <a:chOff x="4665600" y="2509920"/>
              <a:chExt cx="522360" cy="815400"/>
            </a:xfrm>
          </p:grpSpPr>
          <p:sp>
            <p:nvSpPr>
              <p:cNvPr id="691" name="文本框 26634"/>
              <p:cNvSpPr/>
              <p:nvPr/>
            </p:nvSpPr>
            <p:spPr>
              <a:xfrm>
                <a:off x="4683240" y="28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2" name="文本框 26635"/>
              <p:cNvSpPr/>
              <p:nvPr/>
            </p:nvSpPr>
            <p:spPr>
              <a:xfrm>
                <a:off x="4687920" y="25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3" name="直接连接符 26636"/>
              <p:cNvSpPr/>
              <p:nvPr/>
            </p:nvSpPr>
            <p:spPr>
              <a:xfrm>
                <a:off x="4665600" y="29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94" name="组合 26637"/>
          <p:cNvGrpSpPr/>
          <p:nvPr/>
        </p:nvGrpSpPr>
        <p:grpSpPr>
          <a:xfrm>
            <a:off x="1031760" y="3240000"/>
            <a:ext cx="7429680" cy="2399760"/>
            <a:chOff x="1031760" y="3240000"/>
            <a:chExt cx="7429680" cy="2399760"/>
          </a:xfrm>
        </p:grpSpPr>
        <p:sp>
          <p:nvSpPr>
            <p:cNvPr id="695" name="TextBox 36"/>
            <p:cNvSpPr/>
            <p:nvPr/>
          </p:nvSpPr>
          <p:spPr>
            <a:xfrm>
              <a:off x="1031760" y="3351240"/>
              <a:ext cx="7429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婴儿每分钟心跳的次数比青少年多     ”？（婴儿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每分钟心跳次数与青少年心跳次数在比较，青少年每分钟心跳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数是单位“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青少年心跳次数平均分成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婴儿心跳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次数是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5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＋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，婴儿每分钟心跳次数是（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＋     ）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96" name="组合 26639"/>
            <p:cNvGrpSpPr/>
            <p:nvPr/>
          </p:nvGrpSpPr>
          <p:grpSpPr>
            <a:xfrm>
              <a:off x="6516720" y="3240000"/>
              <a:ext cx="522360" cy="815400"/>
              <a:chOff x="6516720" y="3240000"/>
              <a:chExt cx="522360" cy="815400"/>
            </a:xfrm>
          </p:grpSpPr>
          <p:sp>
            <p:nvSpPr>
              <p:cNvPr id="697" name="文本框 26640"/>
              <p:cNvSpPr/>
              <p:nvPr/>
            </p:nvSpPr>
            <p:spPr>
              <a:xfrm>
                <a:off x="6534360" y="3595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8" name="文本框 26641"/>
              <p:cNvSpPr/>
              <p:nvPr/>
            </p:nvSpPr>
            <p:spPr>
              <a:xfrm>
                <a:off x="6539040" y="324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99" name="直接连接符 26642"/>
              <p:cNvSpPr/>
              <p:nvPr/>
            </p:nvSpPr>
            <p:spPr>
              <a:xfrm>
                <a:off x="6516720" y="3659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700" name="组合 26643"/>
            <p:cNvGrpSpPr/>
            <p:nvPr/>
          </p:nvGrpSpPr>
          <p:grpSpPr>
            <a:xfrm>
              <a:off x="6929280" y="4603680"/>
              <a:ext cx="522360" cy="815400"/>
              <a:chOff x="6929280" y="4603680"/>
              <a:chExt cx="522360" cy="815400"/>
            </a:xfrm>
          </p:grpSpPr>
          <p:sp>
            <p:nvSpPr>
              <p:cNvPr id="701" name="文本框 26644"/>
              <p:cNvSpPr/>
              <p:nvPr/>
            </p:nvSpPr>
            <p:spPr>
              <a:xfrm>
                <a:off x="6946920" y="4959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2" name="文本框 26645"/>
              <p:cNvSpPr/>
              <p:nvPr/>
            </p:nvSpPr>
            <p:spPr>
              <a:xfrm>
                <a:off x="6951600" y="4603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703" name="直接连接符 26646"/>
              <p:cNvSpPr/>
              <p:nvPr/>
            </p:nvSpPr>
            <p:spPr>
              <a:xfrm>
                <a:off x="6929280" y="5022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3:43Z</dcterms:modified>
  <cp:revision>3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